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jpeg" ContentType="image/jpeg"/>
  <Override PartName="/ppt/media/image4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EDBD-D99F-42E3-93C4-D8EEBB81AF1A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D239-24D3-433E-8CDF-C1B5598B16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C93CE-DAF4-4C9F-BF2E-2E98CF2F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BBF88-1111-41A5-BA6D-5F356019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F15B0-F71C-4448-BA9E-2E5D40C2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ED84F-C0B2-42BC-9846-6B238D41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35F9C-49D5-4E6A-8D90-7AB92C17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9D16E-34B6-4A3D-BF1A-8B4583ED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B7E8C-73D1-42F8-A648-B8A2F6BE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37392-2FD1-4DF0-93EE-327CCFE2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F378C-2376-42E7-B1D7-49F2349E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FB3DE-4FCE-40B2-B535-8309391E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90E35-3D89-460F-AC80-89ED6484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61700-9283-4DB3-96CF-C639FE10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BDAD6-3028-491D-89B0-64B20ED8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1093C-9D83-4449-B020-2DD2FAF4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635CB-A576-4BAE-B6B4-EBBB60AF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6A109-4B42-4230-814F-437EE457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C7B83-B92D-43F4-A6B7-DAD6CB9B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BAEC15-4B22-447A-925B-ADB8DE28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4B7EB5-1B22-4B7E-8D3E-35EADBD2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725DA-FBF3-49D4-BD37-A0254781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A67D04-5DCC-4EB8-B060-5C214929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282124-93E6-4C5E-AD34-1D769028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83A9B-1FB0-4102-8235-007AA744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F36C2-D207-4C6B-8C16-D3DD5E38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67E2DF-29AB-4296-BF59-ECCCC59D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31681-E33C-488E-9ED8-1726ECF4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BBE7EF-D732-47BF-B782-2054B8F5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CC24F-40BE-4368-9732-E5E367D1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340514-4B1C-485E-8A74-CAA4B43A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D5C12E-E939-4B3E-824D-8868B98D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41287-F81B-4A6E-AE30-690DA968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1E4E6-2173-4253-A4CC-7EC087EC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8A9BB-A36D-492B-AF82-C9A774BA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2EB50-A8B8-4617-9243-438D97AA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EE82A-25D1-45EE-8D4A-AB203826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B653D-8DBE-401A-A52A-B7EBC825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C122-E5D2-4ED6-9884-D7BB2A302E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520" bIns="3852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3C6A-49DD-4938-9E45-22C67B0C1A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6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ftr" idx="7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8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520" bIns="3852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3F2D-860F-4A0E-BB85-13F5DC2221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9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03320" y="2560680"/>
            <a:ext cx="582768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755720" y="-6480"/>
            <a:ext cx="5108760" cy="1292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763640" y="1484280"/>
            <a:ext cx="590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3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cc"/>
                </a:solidFill>
                <a:latin typeface="Times New Roman"/>
              </a:rPr>
              <a:t>БЮДЖЕТ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63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500" spc="-1" strike="noStrike">
                <a:solidFill>
                  <a:srgbClr val="3333cc"/>
                </a:solidFill>
                <a:latin typeface="Times New Roman"/>
              </a:rPr>
              <a:t>ДЛЯ ГРАЖДАН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63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33cc"/>
                </a:solidFill>
                <a:latin typeface="Times New Roman"/>
              </a:rPr>
              <a:t>по проекту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33200" y="208080"/>
            <a:ext cx="1731960" cy="1981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6699240" y="122400"/>
            <a:ext cx="2243160" cy="2017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932360" y="2997360"/>
            <a:ext cx="421164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годового отчета об исполнении бюджета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муниципального района 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«Большесолдатский район»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Курской области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за 2022 год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90600" y="506520"/>
            <a:ext cx="8240760" cy="9745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85680" y="1571760"/>
            <a:ext cx="8928000" cy="51433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50720" y="219240"/>
            <a:ext cx="8242560" cy="84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179280" y="1052640"/>
          <a:ext cx="8786520" cy="5690880"/>
        </p:xfrm>
        <a:graphic>
          <a:graphicData uri="http://schemas.openxmlformats.org/drawingml/2006/table">
            <a:tbl>
              <a:tblPr/>
              <a:tblGrid>
                <a:gridCol w="936720"/>
                <a:gridCol w="4799880"/>
                <a:gridCol w="1525680"/>
                <a:gridCol w="1524240"/>
              </a:tblGrid>
              <a:tr h="554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на 2022 год </a:t>
                      </a:r>
                      <a:r>
                        <a:rPr b="1" lang="ru-RU" sz="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 за 2022 год  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692 600,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652 682,9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9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268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66 409,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39 376,4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745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высшего должностного лица субъекта Российской Федерации и муниципального образ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00,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00,3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80388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законодательных (представительных) органов государственной власти и представительных органов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2,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2,2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035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443 4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361,8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477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дебная сис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8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8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035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233,2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124,7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459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ервные фон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477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 094,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302,2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0720" y="237960"/>
            <a:ext cx="8242560" cy="118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179280" y="1268280"/>
          <a:ext cx="8715240" cy="5430600"/>
        </p:xfrm>
        <a:graphic>
          <a:graphicData uri="http://schemas.openxmlformats.org/drawingml/2006/table">
            <a:tbl>
              <a:tblPr/>
              <a:tblGrid>
                <a:gridCol w="1078200"/>
                <a:gridCol w="4539600"/>
                <a:gridCol w="1657800"/>
                <a:gridCol w="1439640"/>
              </a:tblGrid>
              <a:tr h="62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на 2022 год      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 за 2022год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53100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477,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310,8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4160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та населения и территории от чрезвычайных ситуаций природного и техногенного характера, пожарная безопас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7,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,8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2004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80 151,0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77 127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5648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экономически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8,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309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9,9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39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жное хозяйство (дорожные фонд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 649,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 707,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2004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национальной эконом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17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61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871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18 140,0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17 971,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2004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140,0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971,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 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охраны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112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179280" y="1125360"/>
          <a:ext cx="8786520" cy="5618160"/>
        </p:xfrm>
        <a:graphic>
          <a:graphicData uri="http://schemas.openxmlformats.org/drawingml/2006/table">
            <a:tbl>
              <a:tblPr/>
              <a:tblGrid>
                <a:gridCol w="1087560"/>
                <a:gridCol w="4601160"/>
                <a:gridCol w="1584720"/>
                <a:gridCol w="1513080"/>
              </a:tblGrid>
              <a:tr h="70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на 2022 год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 за 2022 год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4971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426 080,1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422 156,0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953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школьно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866,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408,6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953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6 739,2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3 974,1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953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олнительное образование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100,4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440,9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143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еж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86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86,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4640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687,9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646,0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953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29 069,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27 513,9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957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493,0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946,0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03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 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культуры, кинемат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76,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67,8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03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равоохра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303,5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294,3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03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 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нитарно-эпидемиологическое благополу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3,5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4,3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50720" y="182520"/>
            <a:ext cx="10618920" cy="109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179280" y="1197000"/>
          <a:ext cx="8715240" cy="5546520"/>
        </p:xfrm>
        <a:graphic>
          <a:graphicData uri="http://schemas.openxmlformats.org/drawingml/2006/table">
            <a:tbl>
              <a:tblPr/>
              <a:tblGrid>
                <a:gridCol w="1078200"/>
                <a:gridCol w="4207680"/>
                <a:gridCol w="1740240"/>
                <a:gridCol w="1689120"/>
              </a:tblGrid>
              <a:tr h="56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на 2022 год  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2022 год   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,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5568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54 677,8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51 086,2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5748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нсион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09,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08,9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571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е обеспечение на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557,3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505,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5568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семьи и дет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 030,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489,9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5928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социальной поли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81,4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81,4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571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9 422,6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9 027,8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5568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овый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422,6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027,8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2584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общего характера бюджетам субъектов Российской Федерации и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7 818,8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7 818,8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82584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на выравнивание бюджетной обеспеченности субъектов Российской Федерации и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552,8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552,8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269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межбюджетные трансферты общего характ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66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66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7892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250920" y="1387440"/>
          <a:ext cx="8714880" cy="5128920"/>
        </p:xfrm>
        <a:graphic>
          <a:graphicData uri="http://schemas.openxmlformats.org/drawingml/2006/table">
            <a:tbl>
              <a:tblPr/>
              <a:tblGrid>
                <a:gridCol w="3816720"/>
                <a:gridCol w="1468800"/>
                <a:gridCol w="1740240"/>
                <a:gridCol w="1689120"/>
              </a:tblGrid>
              <a:tr h="51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раздела по бюджет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инансирование  из бюджета муниципального района 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 году, за счет средст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880"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раздела по бюджетной классифик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дер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лас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2364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2912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2912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2328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2328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равоохра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8664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2948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0476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общего характера бюджетам субъектов Российской Федерации и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364000" y="1125360"/>
            <a:ext cx="3672000" cy="5616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14360" y="328680"/>
            <a:ext cx="8242200" cy="542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50920" y="1000080"/>
            <a:ext cx="547344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униципальной программой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вляется комплекс мероприятий взаимосвязанных по задачам, срокам осуществления и ресурсам в сфере социально-экономического развития Большесолдатского района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В 2022 году из бюджета муниципального района «Большесолдатский район» Курской области осуществлялось финансирование на реализацию мероприятий по 14 муниципальным программам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171360" y="3852720"/>
            <a:ext cx="472932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11040" y="109440"/>
            <a:ext cx="8442360" cy="665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79280" y="907920"/>
            <a:ext cx="87854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79280" y="907920"/>
          <a:ext cx="8786520" cy="5762520"/>
        </p:xfrm>
        <a:graphic>
          <a:graphicData uri="http://schemas.openxmlformats.org/drawingml/2006/table">
            <a:tbl>
              <a:tblPr/>
              <a:tblGrid>
                <a:gridCol w="6862320"/>
                <a:gridCol w="1924200"/>
              </a:tblGrid>
              <a:tr h="1166760">
                <a:tc>
                  <a:txBody>
                    <a:bodyPr lIns="9360" rIns="936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 за 20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</a:tcPr>
                </a:tc>
              </a:tr>
              <a:tr h="243000">
                <a:tc>
                  <a:txBody>
                    <a:bodyPr lIns="9360" rIns="93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9 405,7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62352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Развитие культуры в Большесолдатском районе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105,0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62388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Социальная поддержка граждан Большесолдатского района Курской област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 509,8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62352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Развитие образования Большесолдатского района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5 089,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62388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Охрана окружающей среды Большесолдатского района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971,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82836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Обеспечение доступным и комфортным жильем и коммунальными услугами граждан Большесолдатского района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91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102960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Повышение эффективности работы с молодежью, организация отдыха и оздоровления детей, молодежи, развитие физической культуры и спорта в Большесолдатском  районе  Курской области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714,0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250920" y="1341360"/>
          <a:ext cx="8570520" cy="5327280"/>
        </p:xfrm>
        <a:graphic>
          <a:graphicData uri="http://schemas.openxmlformats.org/drawingml/2006/table">
            <a:tbl>
              <a:tblPr/>
              <a:tblGrid>
                <a:gridCol w="6654240"/>
                <a:gridCol w="1916280"/>
              </a:tblGrid>
              <a:tr h="397080">
                <a:tc>
                  <a:txBody>
                    <a:bodyPr lIns="9360" rIns="936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 за 2022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</a:tcPr>
                </a:tc>
              </a:tr>
              <a:tr h="49320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Развитие муниципальной службы  Большесолдатского района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5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49644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Сохранение и развитие архивного дела Большесолдатского района Курской области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,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73656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«Развитие транспортной системы, обеспечение перевозки пассажиров и безопасности дорожного движения Большесолдатского района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 407,2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44604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Профилактика правонарушений в Большесолдатском районе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4,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43992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Повышение эффективности управления финансами Большесолдатского района Курской области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936,7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7852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Содействие занятости населения Большесолдатского района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8,3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91872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«Защита населения и территории от чрезвычайных ситуаций, обеспечение пожарной безопасности и  безопасности людей на водных объектах в Большесолдатском районе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,8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82080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Развитие малого и среднего предпринимательства Большесолдатского района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468360" y="33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Расходы бюджета на реализацию муниципальных программ муниципального района «Большесолдатского район» Курской области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50720" y="85680"/>
            <a:ext cx="8242560" cy="1414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17600" y="1577880"/>
            <a:ext cx="822960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14360" y="122400"/>
            <a:ext cx="5700600" cy="2743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85840" y="2643120"/>
            <a:ext cx="871524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b3e21"/>
                </a:solidFill>
                <a:latin typeface="Times New Roman"/>
              </a:rPr>
              <a:t>    </a:t>
            </a:r>
            <a:r>
              <a:rPr b="0" lang="ru-RU" sz="1700" spc="-1" strike="noStrike">
                <a:solidFill>
                  <a:srgbClr val="4b3e21"/>
                </a:solidFill>
                <a:latin typeface="Times New Roman"/>
              </a:rPr>
              <a:t>В 2022 году в районе в отрасли образования функционировало 22 учреждения, в отрасли культуры функционировало 3 учреждения, в отрасли физической культуры и спорта 1 учреждение, 1 учреждение по обслуживанию органов местного самоуправления, 1 учреждение по централизации бюджетного учета, 6 учреждений  органов местного самоуправления, 7 сельских поселений.</a:t>
            </a:r>
            <a:endParaRPr b="0" lang="en-US" sz="17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004080" y="182520"/>
            <a:ext cx="2963880" cy="1974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44440" y="3925800"/>
            <a:ext cx="4443480" cy="2822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4853160" y="3925800"/>
            <a:ext cx="4119480" cy="28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53880" y="109440"/>
            <a:ext cx="8429760" cy="176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"/>
          <p:cNvGraphicFramePr/>
          <p:nvPr/>
        </p:nvGraphicFramePr>
        <p:xfrm>
          <a:off x="179280" y="1700280"/>
          <a:ext cx="8678520" cy="5086080"/>
        </p:xfrm>
        <a:graphic>
          <a:graphicData uri="http://schemas.openxmlformats.org/drawingml/2006/table">
            <a:tbl>
              <a:tblPr/>
              <a:tblGrid>
                <a:gridCol w="7434000"/>
                <a:gridCol w="12445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ы дорожного фонда по направлениям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a8a14"/>
                        </a:gs>
                        <a:gs pos="100000">
                          <a:srgbClr val="4f400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тыс.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a8a14"/>
                        </a:gs>
                        <a:gs pos="100000">
                          <a:srgbClr val="4f400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05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ирование, строительство, реконструкция сети автомобильных дорог общего пользования (за исключением автомобильных дорог федерального значения) с твердым покрытием до сельских населенных пунктов, не имеющих круглогодичной связи с сетью автомобильных дорог общего пользования, а также их капитальный ремонт и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 279,6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4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ительство  сети автомобильных дорог общего пользования и искусственных сооружений на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 312,7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ирование  сети автомобильных дорог общего пользования и искусственных сооружений на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3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итальный ремонт и ремонт сети автомобильных дорог общего пользования и искусственных сооружений на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 904,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</a:tr>
              <a:tr h="503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 сети автомобильных дорог общего пользования и искусственных сооружений на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 017,7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держка дорожного хозяй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</a:tr>
              <a:tr h="396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 сети автомобильных дорог общего пользования и искусственных сооружений на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2,9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</a:tr>
              <a:tr h="43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 707,2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</a:tr>
            </a:tbl>
          </a:graphicData>
        </a:graphic>
      </p:graphicFrame>
      <p:grpSp>
        <p:nvGrpSpPr>
          <p:cNvPr id="201" name=""/>
          <p:cNvGrpSpPr/>
          <p:nvPr/>
        </p:nvGrpSpPr>
        <p:grpSpPr>
          <a:xfrm>
            <a:off x="115920" y="225360"/>
            <a:ext cx="8831160" cy="766800"/>
            <a:chOff x="115920" y="225360"/>
            <a:chExt cx="8831160" cy="766800"/>
          </a:xfrm>
        </p:grpSpPr>
        <p:pic>
          <p:nvPicPr>
            <p:cNvPr id="202" name="" descr=""/>
            <p:cNvPicPr/>
            <p:nvPr/>
          </p:nvPicPr>
          <p:blipFill>
            <a:blip r:embed="rId3"/>
            <a:stretch/>
          </p:blipFill>
          <p:spPr>
            <a:xfrm>
              <a:off x="115920" y="225360"/>
              <a:ext cx="883116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210960" y="291960"/>
              <a:ext cx="864900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cc"/>
                  </a:solidFill>
                  <a:latin typeface="Times New Roman"/>
                  <a:ea typeface="DejaVu Sans"/>
                </a:rPr>
                <a:t>Дорожный фонд Большесолдатского района за 2022 год</a:t>
              </a:r>
              <a:endParaRPr b="0" lang="en-US" sz="2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</p:spTree>
  </p:cSld>
  <p:transition spd="med" advTm="5000">
    <p:blinds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nodeType="clickEffect" fill="hold">
                      <p:stCondLst>
                        <p:cond delay="0"/>
                      </p:stCondLst>
                      <p:childTnLst>
                        <p:par>
                          <p:cTn id="1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419720" y="115920"/>
            <a:ext cx="4610160" cy="3457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84360" y="260280"/>
            <a:ext cx="8064360" cy="63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Под муниципальным долгом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понимается совокупность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долговых обязательств муниципального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образования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Муниципальный долг полностью и без условий обеспечивается всем муниципальным имуществом, составляющим муниципальную казну. 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  <a:ea typeface="DejaVu Sans"/>
              </a:rPr>
              <a:t>Расходы на обслуживание муниципального долга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  <a:ea typeface="DejaVu Sans"/>
              </a:rPr>
              <a:t>за 2022 год составил 0 тыс. рублей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По состоянию на 01.01.2023 год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(как и на 01.01.2022 года) муниципальный район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«Большесолдатский район»  Курской области задолженности по бюджетным кредитам, предоставленным из областного бюджета,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не имеет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 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В 2022 году из областного бюджета бюджету муниципального района бюджетные кредиты не выдавали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767560" y="4121280"/>
            <a:ext cx="3290760" cy="2468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50720" y="249120"/>
            <a:ext cx="8242560" cy="1744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57200" y="2349360"/>
            <a:ext cx="80024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307850, Курская обл.,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с. Большое Солдатское,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ул. Кооперативная, 21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Управление финансов Администрации Большесолдатского района Курской област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факс:(47136) 2-13-94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тел.: (47136)  2-14-43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E-mail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bsupr@mail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График работы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: понедельник-пятница с 8-00 до 16-00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cc"/>
                </a:solidFill>
                <a:latin typeface="Times New Roman"/>
              </a:rPr>
              <a:t>Суббота, воскресенье - выходные дн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242560" cy="153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457200" y="1712880"/>
          <a:ext cx="8230680" cy="4308120"/>
        </p:xfrm>
        <a:graphic>
          <a:graphicData uri="http://schemas.openxmlformats.org/drawingml/2006/table">
            <a:tbl>
              <a:tblPr/>
              <a:tblGrid>
                <a:gridCol w="2675160"/>
                <a:gridCol w="5555520"/>
              </a:tblGrid>
              <a:tr h="11959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гда проводятся публичные слушания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рассмотрении проекта закона о бюджете на очередной финансовый год и на плановый период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343080" indent="-343080" algn="just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рассмотрении проекта закона об исполнении бюджета за отчетный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07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информируются граждане о проведении публичных слушаний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вещение о проведении публичных слуш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мещается на официальном сайте Администрации Большесолдатского района Курской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20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 публичных слуш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формляется итоговый документ публичных слушаний с учетом высказанных экспертами рекомендаций и предложений. Итоговый документ размещается на официальном сайте Администрации Большесолдатского района Курской обла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83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де можно получить дополнительную информацию о публичных слушаниях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ставительное Собрание Большесолдатского района Курской области по адресу: 307850,  Большесолдатский район, с. Большое Солдатское, ул. Мира,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57120" y="4214880"/>
            <a:ext cx="842976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БЮДЖЕТ ДЛЯ ГРАЖДАН –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66640" y="2560680"/>
            <a:ext cx="4511880" cy="1657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572080" y="214200"/>
            <a:ext cx="3357720" cy="2419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42920" y="9720"/>
            <a:ext cx="5214960" cy="27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2014 года все финансовые органы страны составляют на регулярной основе 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ьный аналитический докумен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для гражда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содержит основные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я закона (решения) о бюджете и отчета о его исполнении в доступной и понятной форме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держите в руках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для гражда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познакомит вас с основными положениями бюджета муниципального района «Большесолдатский район» Курской области за 2019 год 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3680" y="152280"/>
            <a:ext cx="8242200" cy="1122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68360" y="1052640"/>
            <a:ext cx="8207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just">
              <a:lnSpc>
                <a:spcPct val="70000"/>
              </a:lnSpc>
              <a:spcBef>
                <a:spcPts val="388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юджет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 доходов и расходов для  обеспечения задач и   функций государств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70000"/>
              </a:lnSpc>
              <a:spcBef>
                <a:spcPts val="38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7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«Программный бюджет»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юджет, сформированный в соответствии с утвержденными муниципальными программами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7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7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Дефицит бюджета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ходная часть бюджета превышает доходную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7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7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Профицит бюджета -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жительный остаток бюдже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доходная часть бюджета превышает расходную)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7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7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Бюджет для граждан об исполнении составляется на один год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38120" y="79200"/>
            <a:ext cx="8388360" cy="1463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42960" y="1773360"/>
          <a:ext cx="8002080" cy="4555800"/>
        </p:xfrm>
        <a:graphic>
          <a:graphicData uri="http://schemas.openxmlformats.org/drawingml/2006/table">
            <a:tbl>
              <a:tblPr/>
              <a:tblGrid>
                <a:gridCol w="4000680"/>
                <a:gridCol w="4001400"/>
              </a:tblGrid>
              <a:tr h="97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                                      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тыс. рубл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ассовое испол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219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8 130,457       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43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2 682,909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92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фиц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 447,548   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852640" y="2992320"/>
            <a:ext cx="3127320" cy="28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115920" y="66600"/>
            <a:ext cx="8831160" cy="852480"/>
            <a:chOff x="115920" y="66600"/>
            <a:chExt cx="8831160" cy="85248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115920" y="66600"/>
              <a:ext cx="8831160" cy="85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3" name=""/>
            <p:cNvGrpSpPr/>
            <p:nvPr/>
          </p:nvGrpSpPr>
          <p:grpSpPr>
            <a:xfrm>
              <a:off x="209520" y="171360"/>
              <a:ext cx="8656560" cy="666720"/>
              <a:chOff x="209520" y="171360"/>
              <a:chExt cx="8656560" cy="666720"/>
            </a:xfrm>
          </p:grpSpPr>
          <p:pic>
            <p:nvPicPr>
              <p:cNvPr id="1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9520" y="171360"/>
                <a:ext cx="8656560" cy="6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254160" y="184320"/>
                <a:ext cx="825948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onstantia"/>
                    <a:ea typeface="DejaVu Sans"/>
                  </a:rPr>
                  <a:t>Доходы бюджета</a:t>
                </a:r>
                <a:endParaRPr b="0" lang="en-US" sz="24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2627280" y="981000"/>
            <a:ext cx="53992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Constantia"/>
                <a:ea typeface="DejaVu Sans"/>
              </a:rPr>
              <a:t>Поступающие в бюджет денежные средства являются 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Constantia"/>
                <a:ea typeface="DejaVu Sans"/>
              </a:rPr>
              <a:t>ДОХОДАМИ БЮДЖЕТА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7" name=""/>
          <p:cNvSpPr/>
          <p:nvPr/>
        </p:nvSpPr>
        <p:spPr>
          <a:xfrm rot="2340000">
            <a:off x="3131640" y="1773360"/>
            <a:ext cx="223920" cy="1025280"/>
          </a:xfrm>
          <a:custGeom>
            <a:avLst/>
            <a:gdLst/>
            <a:ahLst/>
            <a:rect l="l" t="t" r="r" b="b"/>
            <a:pathLst>
              <a:path w="654" h="2848">
                <a:moveTo>
                  <a:pt x="0" y="1202"/>
                </a:moveTo>
                <a:lnTo>
                  <a:pt x="638" y="1202"/>
                </a:lnTo>
                <a:lnTo>
                  <a:pt x="638" y="0"/>
                </a:lnTo>
                <a:lnTo>
                  <a:pt x="-16" y="0"/>
                </a:lnTo>
                <a:lnTo>
                  <a:pt x="-16" y="1202"/>
                </a:lnTo>
                <a:lnTo>
                  <a:pt x="622" y="1202"/>
                </a:lnTo>
                <a:lnTo>
                  <a:pt x="311" y="2848"/>
                </a:lnTo>
                <a:close/>
              </a:path>
            </a:pathLst>
          </a:cu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8" name=""/>
          <p:cNvSpPr/>
          <p:nvPr/>
        </p:nvSpPr>
        <p:spPr>
          <a:xfrm rot="19260000">
            <a:off x="7234200" y="1774440"/>
            <a:ext cx="223920" cy="1006560"/>
          </a:xfrm>
          <a:custGeom>
            <a:avLst/>
            <a:gdLst/>
            <a:ahLst/>
            <a:rect l="l" t="t" r="r" b="b"/>
            <a:pathLst>
              <a:path w="653" h="2795">
                <a:moveTo>
                  <a:pt x="0" y="951"/>
                </a:moveTo>
                <a:lnTo>
                  <a:pt x="637" y="951"/>
                </a:lnTo>
                <a:lnTo>
                  <a:pt x="637" y="0"/>
                </a:lnTo>
                <a:lnTo>
                  <a:pt x="-16" y="0"/>
                </a:lnTo>
                <a:lnTo>
                  <a:pt x="-16" y="951"/>
                </a:lnTo>
                <a:lnTo>
                  <a:pt x="621" y="951"/>
                </a:lnTo>
                <a:lnTo>
                  <a:pt x="311" y="2795"/>
                </a:lnTo>
                <a:close/>
              </a:path>
            </a:pathLst>
          </a:cu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9" name=""/>
          <p:cNvSpPr/>
          <p:nvPr/>
        </p:nvSpPr>
        <p:spPr>
          <a:xfrm>
            <a:off x="5003640" y="1844640"/>
            <a:ext cx="223920" cy="936720"/>
          </a:xfrm>
          <a:custGeom>
            <a:avLst/>
            <a:gdLst/>
            <a:ahLst/>
            <a:rect l="l" t="t" r="r" b="b"/>
            <a:pathLst>
              <a:path w="654" h="2602">
                <a:moveTo>
                  <a:pt x="0" y="1368"/>
                </a:moveTo>
                <a:lnTo>
                  <a:pt x="638" y="1368"/>
                </a:lnTo>
                <a:lnTo>
                  <a:pt x="638" y="0"/>
                </a:lnTo>
                <a:lnTo>
                  <a:pt x="-16" y="0"/>
                </a:lnTo>
                <a:lnTo>
                  <a:pt x="-16" y="1368"/>
                </a:lnTo>
                <a:lnTo>
                  <a:pt x="622" y="1368"/>
                </a:lnTo>
                <a:lnTo>
                  <a:pt x="311" y="2602"/>
                </a:lnTo>
                <a:close/>
              </a:path>
            </a:pathLst>
          </a:cu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139760" y="2981160"/>
            <a:ext cx="2644920" cy="3765600"/>
            <a:chOff x="1139760" y="2981160"/>
            <a:chExt cx="2644920" cy="3765600"/>
          </a:xfrm>
        </p:grpSpPr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1139760" y="2981160"/>
              <a:ext cx="2644920" cy="37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297080" y="3106800"/>
              <a:ext cx="2011320" cy="31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Constantia"/>
                  <a:ea typeface="DejaVu Sans"/>
                </a:rPr>
                <a:t>НАЛОГИ</a:t>
              </a:r>
              <a:r>
                <a:rPr b="0" lang="ru-RU" sz="1400" spc="-1" strike="noStrike">
                  <a:solidFill>
                    <a:srgbClr val="ffffff"/>
                  </a:solidFill>
                  <a:latin typeface="Constantia"/>
                  <a:ea typeface="DejaVu Sans"/>
                </a:rPr>
                <a:t> </a:t>
              </a:r>
              <a:r>
                <a:rPr b="0" lang="ru-RU" sz="1400" spc="-1" strike="noStrike">
                  <a:solidFill>
                    <a:srgbClr val="f1ebdf"/>
                  </a:solidFill>
                  <a:latin typeface="Constantia"/>
                  <a:ea typeface="DejaVu Sans"/>
                </a:rPr>
                <a:t>– часть доходов граждан и организаций, которые они обязаны заплатить государству (например, налог на доходы физических лиц, налог на прибыль, налог на имущество физических лиц, земельный налог, транспортный налог и др.)</a:t>
              </a:r>
              <a:endParaRPr b="0" lang="en-US" sz="1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876840" y="2981160"/>
            <a:ext cx="2717640" cy="3765600"/>
            <a:chOff x="3876840" y="2981160"/>
            <a:chExt cx="2717640" cy="3765600"/>
          </a:xfrm>
        </p:grpSpPr>
        <p:pic>
          <p:nvPicPr>
            <p:cNvPr id="164" name="" descr=""/>
            <p:cNvPicPr/>
            <p:nvPr/>
          </p:nvPicPr>
          <p:blipFill>
            <a:blip r:embed="rId5"/>
            <a:stretch/>
          </p:blipFill>
          <p:spPr>
            <a:xfrm>
              <a:off x="3876840" y="2981160"/>
              <a:ext cx="2717640" cy="37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037040" y="3110040"/>
              <a:ext cx="2076480" cy="31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Constantia"/>
                  <a:ea typeface="DejaVu Sans"/>
                </a:rPr>
                <a:t>НЕНАЛОГОВЫЕ ДОХОДЫ</a:t>
              </a:r>
              <a:r>
                <a:rPr b="1" lang="ru-RU" sz="1400" spc="-1" strike="noStrike">
                  <a:solidFill>
                    <a:srgbClr val="ffffff"/>
                  </a:solidFill>
                  <a:latin typeface="Constantia"/>
                  <a:ea typeface="DejaVu Sans"/>
                </a:rPr>
                <a:t> </a:t>
              </a:r>
              <a:r>
                <a:rPr b="0" lang="ru-RU" sz="1400" spc="-1" strike="noStrike">
                  <a:solidFill>
                    <a:srgbClr val="f1ebdf"/>
                  </a:solidFill>
                  <a:latin typeface="Constantia"/>
                  <a:ea typeface="DejaVu Sans"/>
                </a:rPr>
                <a:t>– платежи в виде штрафов, санкций за нарушение законодательства, платежи за пользование имуществом государства, средства самообложения граждан</a:t>
              </a:r>
              <a:endParaRPr b="0" lang="en-US" sz="1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540480" y="3048120"/>
            <a:ext cx="2718000" cy="3698640"/>
            <a:chOff x="6540480" y="3048120"/>
            <a:chExt cx="2718000" cy="3698640"/>
          </a:xfrm>
        </p:grpSpPr>
        <p:pic>
          <p:nvPicPr>
            <p:cNvPr id="167" name="" descr=""/>
            <p:cNvPicPr/>
            <p:nvPr/>
          </p:nvPicPr>
          <p:blipFill>
            <a:blip r:embed="rId6"/>
            <a:stretch/>
          </p:blipFill>
          <p:spPr>
            <a:xfrm>
              <a:off x="6540480" y="3048120"/>
              <a:ext cx="2718000" cy="36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6700680" y="3181320"/>
              <a:ext cx="2076480" cy="30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Constantia"/>
                  <a:ea typeface="DejaVu Sans"/>
                </a:rPr>
                <a:t>БЕЗВОЗМЕЗДНЫЕ ПОСТУПЛЕНИЯ</a:t>
              </a:r>
              <a:r>
                <a:rPr b="1" lang="ru-RU" sz="1400" spc="-1" strike="noStrike">
                  <a:solidFill>
                    <a:srgbClr val="ffffff"/>
                  </a:solidFill>
                  <a:latin typeface="Constantia"/>
                  <a:ea typeface="DejaVu Sans"/>
                </a:rPr>
                <a:t> </a:t>
              </a:r>
              <a:r>
                <a:rPr b="0" lang="ru-RU" sz="1400" spc="-1" strike="noStrike">
                  <a:solidFill>
                    <a:srgbClr val="ffffff"/>
                  </a:solidFill>
                  <a:latin typeface="Constantia"/>
                  <a:ea typeface="DejaVu Sans"/>
                </a:rPr>
                <a:t>– </a:t>
              </a:r>
              <a:r>
                <a:rPr b="0" lang="ru-RU" sz="1400" spc="-1" strike="noStrike">
                  <a:solidFill>
                    <a:srgbClr val="f1ebdf"/>
                  </a:solidFill>
                  <a:latin typeface="Constantia"/>
                  <a:ea typeface="DejaVu Sans"/>
                </a:rPr>
                <a:t>средства, которые поступают в бюджет безвозмездно (денежные средства, поступающие из вышестоящего бюджета (например, дотация из областного бюджета), а также безвозмездные перечисления от физических и юридических лиц) </a:t>
              </a:r>
              <a:endParaRPr b="0" lang="en-US" sz="1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179280" y="981000"/>
            <a:ext cx="259236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214200" y="1071720"/>
          <a:ext cx="8751600" cy="5643000"/>
        </p:xfrm>
        <a:graphic>
          <a:graphicData uri="http://schemas.openxmlformats.org/drawingml/2006/table">
            <a:tbl>
              <a:tblPr/>
              <a:tblGrid>
                <a:gridCol w="2964240"/>
                <a:gridCol w="2423160"/>
                <a:gridCol w="3364200"/>
              </a:tblGrid>
              <a:tr h="782640">
                <a:tc>
                  <a:txBody>
                    <a:bodyPr lIns="4320" rIns="4320" anchor="t">
                      <a:noAutofit/>
                    </a:bodyPr>
                    <a:p>
                      <a:pPr algn="just">
                        <a:lnSpc>
                          <a:spcPts val="144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я в семейном бюдже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1332000">
                <a:tc>
                  <a:txBody>
                    <a:bodyPr lIns="4320" rIns="432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тации (от лат. 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tati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-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marL="152280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ся без определения конкр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marL="216000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даете своему ребенку «карманные деньг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bdb"/>
                    </a:solidFill>
                  </a:tcPr>
                </a:tc>
              </a:tr>
              <a:tr h="1884960">
                <a:tc>
                  <a:txBody>
                    <a:bodyPr lIns="4320" rIns="432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венции (от лат. 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venir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-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marL="152280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ся 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152280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152280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ереданных» друг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152280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чно-правов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152280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ям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marL="216000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даете своему ребенку деньги и посылаете его в магазин купить продукты (по списк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9"/>
                    </a:solidFill>
                  </a:tcPr>
                </a:tc>
              </a:tr>
              <a:tr h="1643400">
                <a:tc>
                  <a:txBody>
                    <a:bodyPr lIns="4320" rIns="4320" anchor="t">
                      <a:noAutofit/>
                    </a:bodyPr>
                    <a:p>
                      <a:pPr algn="just">
                        <a:lnSpc>
                          <a:spcPts val="1925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сидии (от лат. 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sidium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- поддерж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marL="152280">
                        <a:lnSpc>
                          <a:spcPts val="1925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algn="just">
                        <a:lnSpc>
                          <a:spcPts val="1925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«добавляете» денег для того, чтоб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ts val="1925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ш ребенок купил себе новый телеф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ts val="1925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остальные он накопил са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1571760" y="0"/>
            <a:ext cx="56689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ежбюджетные трансферты - основной вид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безвозмездных перечислений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50720" y="-79200"/>
            <a:ext cx="8382240" cy="101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142920" y="714240"/>
          <a:ext cx="8859600" cy="5763960"/>
        </p:xfrm>
        <a:graphic>
          <a:graphicData uri="http://schemas.openxmlformats.org/drawingml/2006/table">
            <a:tbl>
              <a:tblPr/>
              <a:tblGrid>
                <a:gridCol w="1523880"/>
                <a:gridCol w="3704400"/>
                <a:gridCol w="1816560"/>
                <a:gridCol w="1814760"/>
              </a:tblGrid>
              <a:tr h="72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д бюджетн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 2022 год </a:t>
                      </a: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2022  год </a:t>
                      </a: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овые и неналоговые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 188,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 897,6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прибыль,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 65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 651,7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3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товары (работы, услуги), реализуемые на территории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330,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459,0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47,9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925,7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3,5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4,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3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487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645,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2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тежи при пользовании природными ресурс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6,2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4,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9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оказания платных услуг (работ) и компенсации затрат госуда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56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88,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2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продажи материальных и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9,5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9,5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трафы, санкции, возмещение ущер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4,8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9,4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50920" y="1268280"/>
          <a:ext cx="8570520" cy="5392440"/>
        </p:xfrm>
        <a:graphic>
          <a:graphicData uri="http://schemas.openxmlformats.org/drawingml/2006/table">
            <a:tbl>
              <a:tblPr/>
              <a:tblGrid>
                <a:gridCol w="1487520"/>
                <a:gridCol w="4058640"/>
                <a:gridCol w="1584720"/>
                <a:gridCol w="1439640"/>
              </a:tblGrid>
              <a:tr h="75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д бюджетн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 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7 165,6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4 232,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5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 от других бюджетов бюджетной системы 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9 142,1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6 209,2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бюджетной системы РФ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365,0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 365,0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 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бюджетной системы Российской Федерации (межбюджетные субсиди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0 161,3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9 863,5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 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бюджетам  бюджетной системы 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8 592,3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5 957,1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3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4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4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2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т остатков субсидий, субвенций и иных межбюджетных трансфертов, имеющих целевое назначение, прошлых л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976,5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976,5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382240" cy="10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5T11:14:49Z</dcterms:created>
  <dc:creator>Людмила Михайловна</dc:creator>
  <dc:description/>
  <dc:language>en-US</dc:language>
  <cp:lastModifiedBy>User</cp:lastModifiedBy>
  <cp:lastPrinted>2017-05-22T12:51:03Z</cp:lastPrinted>
  <dcterms:modified xsi:type="dcterms:W3CDTF">2023-04-13T12:31:56Z</dcterms:modified>
  <cp:revision>626</cp:revision>
  <dc:subject/>
  <dc:title>Муниципальное образование Большесолдатский муниципальный район Курской обла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