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4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29B8-97EE-46F0-80C2-2070E412738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97FB-58A9-4BFF-951D-7227A2D5D7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3EB5-20B8-46A4-95C5-D0211446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8381-6141-4BAE-A2C8-36699E55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A9E4-5162-43B7-991E-076492AC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5380-2C87-4B17-8143-B3FAFFB6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1E964-2673-4F25-AD1E-839C0F19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53EAD-7CCC-4457-B54B-4A32C540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1AA1C-0CD6-444A-948B-1C667A3A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5396A-3C32-4D9D-8EA1-9B381F2B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3E12A-B7A6-47FB-8A2B-0EE30910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249AE-BC99-4DF5-A9C3-467591B6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51CD8-E662-4560-8E72-828C28E3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6C9B-28F6-4BF4-98F0-EAC0BA1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41F1F-324B-4CD7-BE33-35379376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34BF7-1949-4769-BF22-162328F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6889A-3C7F-45D8-8621-A26183B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CFE0D-9F4B-4C1D-97F8-F1389DC6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D9415-5A61-4CB0-B14C-1A0D9733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07E1C-241D-4130-9BB3-E0006375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E1B96-2ED7-46F2-B681-48E982A6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73CED-F8D6-47B8-9F9C-C0C80E84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7F45F-024E-464C-B66B-F826F6B0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49576-35CB-4EF3-A60B-4A42E721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4E83-37BE-4576-A990-D6324A17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3243C-8D1D-4115-8BF8-985A8F0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F8F97-7031-4A21-8857-39540A9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E7983-C6E5-495F-A8F1-6CCE65F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DFBAE-DC2B-43F1-A761-7D07824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2DD68-8683-43CA-8756-1162F6FA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69381-0931-49A6-A51F-C8EAEF4F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42DE4-80C0-43B5-AFB8-78EED968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3421-DB6A-4E91-8112-9D6AF9CF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5A47-2084-4298-8AD9-F5BB8132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191D-B133-4F12-BBF5-D8FA571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7555-B2B2-460A-B68B-0E81715E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5525-0E49-4837-B4B7-3632958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080FF-AA47-4834-982B-A9165ED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BBC3-0986-42E9-845A-C6568A58B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E5A5-16F4-41E6-82BC-3356B7C69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F377-BCEA-4B56-A53D-5DA689D9B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3320" y="2560680"/>
            <a:ext cx="58276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55720" y="-6480"/>
            <a:ext cx="5108760" cy="1292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63640" y="1484280"/>
            <a:ext cx="59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333cc"/>
                </a:solidFill>
                <a:latin typeface="Times New Roman"/>
              </a:rPr>
              <a:t>БЮДЖЕТ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3333cc"/>
                </a:solidFill>
                <a:latin typeface="Times New Roman"/>
              </a:rPr>
              <a:t>ДЛЯ ГРАЖДАН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33200" y="208080"/>
            <a:ext cx="173196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699240" y="122400"/>
            <a:ext cx="2243160" cy="2017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32360" y="2997360"/>
            <a:ext cx="42116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к решению об исполнении бюджет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муниципального района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«Большесолдатский район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Курской област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за 2022 год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0600" y="506520"/>
            <a:ext cx="8240760" cy="974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5680" y="1571760"/>
            <a:ext cx="8928000" cy="5143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8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179280" y="1052640"/>
          <a:ext cx="8786520" cy="5690880"/>
        </p:xfrm>
        <a:graphic>
          <a:graphicData uri="http://schemas.openxmlformats.org/drawingml/2006/table">
            <a:tbl>
              <a:tblPr/>
              <a:tblGrid>
                <a:gridCol w="936720"/>
                <a:gridCol w="4799880"/>
                <a:gridCol w="1525680"/>
                <a:gridCol w="1524240"/>
              </a:tblGrid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2 год </a:t>
                      </a:r>
                      <a:r>
                        <a:rPr b="1" lang="ru-RU" sz="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2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92 600,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52 682,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6 409,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9 376,4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45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00,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00,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038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,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,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035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443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361,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7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8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8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035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33,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24,7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59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7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094,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302,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79280" y="1268280"/>
          <a:ext cx="8715240" cy="5430600"/>
        </p:xfrm>
        <a:graphic>
          <a:graphicData uri="http://schemas.openxmlformats.org/drawingml/2006/table">
            <a:tbl>
              <a:tblPr/>
              <a:tblGrid>
                <a:gridCol w="1078200"/>
                <a:gridCol w="4539600"/>
                <a:gridCol w="1657800"/>
                <a:gridCol w="1439640"/>
              </a:tblGrid>
              <a:tr h="62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2 год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2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310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77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10,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416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пожарная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7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80 151,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7 127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56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9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9,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39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649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707,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7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61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871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8 140,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7 971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140,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971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179280" y="1125360"/>
          <a:ext cx="8786520" cy="5618160"/>
        </p:xfrm>
        <a:graphic>
          <a:graphicData uri="http://schemas.openxmlformats.org/drawingml/2006/table">
            <a:tbl>
              <a:tblPr/>
              <a:tblGrid>
                <a:gridCol w="1087560"/>
                <a:gridCol w="4601160"/>
                <a:gridCol w="1584720"/>
                <a:gridCol w="1513080"/>
              </a:tblGrid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2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2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971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26 080,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22 156,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5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866,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08,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5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 739,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974,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5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100,4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440,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4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6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6,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87,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46,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5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9 069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7 513,9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57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493,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946,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0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76,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67,8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0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03,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94,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0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3,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,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106189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79280" y="1197000"/>
          <a:ext cx="8715240" cy="5546520"/>
        </p:xfrm>
        <a:graphic>
          <a:graphicData uri="http://schemas.openxmlformats.org/drawingml/2006/table">
            <a:tbl>
              <a:tblPr/>
              <a:tblGrid>
                <a:gridCol w="1078200"/>
                <a:gridCol w="4207680"/>
                <a:gridCol w="1740240"/>
                <a:gridCol w="1689120"/>
              </a:tblGrid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2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2 год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,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556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4 677,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1 086,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7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09,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08,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7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57,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05,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56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30,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489,9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92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81,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81,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7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 422,6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 027,8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56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22,6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27,8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58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 818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 818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258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52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52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69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6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6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250920" y="1387440"/>
          <a:ext cx="8714880" cy="5128920"/>
        </p:xfrm>
        <a:graphic>
          <a:graphicData uri="http://schemas.openxmlformats.org/drawingml/2006/table">
            <a:tbl>
              <a:tblPr/>
              <a:tblGrid>
                <a:gridCol w="3816720"/>
                <a:gridCol w="1468800"/>
                <a:gridCol w="1740240"/>
                <a:gridCol w="1689120"/>
              </a:tblGrid>
              <a:tr h="51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раздела по бюдже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ирование  из бюджета муниципального района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у, за счет средст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здела по бюджетной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364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2912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2912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328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328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8664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2948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47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672000" cy="5616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14360" y="328680"/>
            <a:ext cx="8242200" cy="542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0920" y="1000080"/>
            <a:ext cx="547344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й программо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ется комплекс мероприятий взаимосвязанных по задачам, срокам осуществления и ресурсам в сфере социально-экономического развития Большесолдатского район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 2022 году из бюджета муниципального района «Большесолдатский район» Курской области осуществлялось финансирование на реализацию мероприятий по 14 муниципальным программа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71360" y="3852720"/>
            <a:ext cx="472932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1040" y="109440"/>
            <a:ext cx="8442360" cy="665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9280" y="907920"/>
            <a:ext cx="8785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9280" y="907920"/>
          <a:ext cx="8786520" cy="5762520"/>
        </p:xfrm>
        <a:graphic>
          <a:graphicData uri="http://schemas.openxmlformats.org/drawingml/2006/table">
            <a:tbl>
              <a:tblPr/>
              <a:tblGrid>
                <a:gridCol w="6862320"/>
                <a:gridCol w="1924200"/>
              </a:tblGrid>
              <a:tr h="1166760"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243000">
                <a:tc>
                  <a:txBody>
                    <a:bodyPr lIns="9360" rIns="93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9 405,7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3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культуры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105,0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388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циальная поддержка граждан Большесолдатского района Кур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509,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3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образова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 089,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388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храна окружающей среды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971,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283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беспечение доступным и комфортным жильем и коммунальными услугами граждан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91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10296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работы с молодежью, организация отдыха и оздоровления детей, молодежи, развитие физической культуры и спорта в Большесолдатском  районе 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14,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50920" y="1341360"/>
          <a:ext cx="8570520" cy="5327280"/>
        </p:xfrm>
        <a:graphic>
          <a:graphicData uri="http://schemas.openxmlformats.org/drawingml/2006/table">
            <a:tbl>
              <a:tblPr/>
              <a:tblGrid>
                <a:gridCol w="6654240"/>
                <a:gridCol w="1916280"/>
              </a:tblGrid>
              <a:tr h="397080"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4932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униципальной службы 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644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хранение и развитие архивного дела Большесолдатского района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,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3656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407,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4604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рофилактика правонарушений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4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399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управления финансами Большесолдатского района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36,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785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действие занятости населе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,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9187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Защита населения и территории от чрезвычайных ситуаций, обеспечение пожарной безопасности и  безопасности людей на водных объектах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208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алого и среднего предпринимательства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Расходы бюджета на реализацию муниципальных программ муниципального района «Большесолдатского район» Курской област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17600" y="1577880"/>
            <a:ext cx="8229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360" y="122400"/>
            <a:ext cx="57006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5840" y="2643120"/>
            <a:ext cx="871524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b3e21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4b3e21"/>
                </a:solidFill>
                <a:latin typeface="Times New Roman"/>
              </a:rPr>
              <a:t>В 2022 году в районе в отрасли образования функционировало 22 учреждения, в отрасли культуры функционировало 3 учреждения, в отрасли физической культуры и спорта 1 учреждение, 1 учреждение по обслуживанию органов местного самоуправления, 1 учреждение по централизации бюджетного учета, 6 учреждений  органов местного самоуправления, 7 сельских поселений.</a:t>
            </a:r>
            <a:endParaRPr b="0" lang="en-US" sz="17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04080" y="182520"/>
            <a:ext cx="2963880" cy="1974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44440" y="3925800"/>
            <a:ext cx="4443480" cy="2822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853160" y="3925800"/>
            <a:ext cx="4119480" cy="28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53880" y="109440"/>
            <a:ext cx="8429760" cy="17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179280" y="1700280"/>
          <a:ext cx="8678520" cy="5086080"/>
        </p:xfrm>
        <a:graphic>
          <a:graphicData uri="http://schemas.openxmlformats.org/drawingml/2006/table">
            <a:tbl>
              <a:tblPr/>
              <a:tblGrid>
                <a:gridCol w="7434000"/>
                <a:gridCol w="1244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дорожного фонда по направления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05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, строительство, реконструкция сети автомобильных дорог общего пользования (за исключением автомобильных дорог федерального значения) с твердым покрытием до сельских населенных пунктов, не имеющих круглогодичной связи с сетью автомобильных дорог общего пользования, а также их капитальный ремонт и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 279,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4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ство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 312,7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3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ьный ремонт и ремонт 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904,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503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017,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держка дорожн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396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 сети автомобильных дорог общего пользования и искусственных сооружений на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,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4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707,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115920" y="225360"/>
            <a:ext cx="8831160" cy="766800"/>
            <a:chOff x="115920" y="225360"/>
            <a:chExt cx="8831160" cy="766800"/>
          </a:xfrm>
        </p:grpSpPr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115920" y="225360"/>
              <a:ext cx="88311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10960" y="291960"/>
              <a:ext cx="86490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Times New Roman"/>
                  <a:ea typeface="DejaVu Sans"/>
                </a:rPr>
                <a:t>Дорожный фонд Большесолдатского района за 2022 год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  <p:transition spd="med"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419720" y="11592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4360" y="260280"/>
            <a:ext cx="806436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д муниципальным долгом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нимается совокупность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долговых обязательств муниципального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униципальный долг полностью и без условий обеспечивается всем муниципальным имуществом, составляющим муниципальную казну. 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Расходы на обслуживание муниципального долга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за 2022 год составил 0 тыс. рубл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 состоянию на 01.01.2023 го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(как и на 01.01.2022 года) муниципальный райо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«Большесолдатский район»  Курской области задолженности по бюджетным кредитам, предоставленным из областного бюджета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не имеет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В 2022 году из областного бюджета бюджету муниципального района бюджетные кредиты не выдав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67560" y="412128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174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2349360"/>
            <a:ext cx="8002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307850, Курская обл.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. Большое Солдатское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ул. Кооперативная, 21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правление финансов Администрации Большесолда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факс:(47136) 2-13-94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л.: (47136)  2-14-4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E-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bsupr@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рафик работы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 понедельник-пятница с 8-00 до 16-00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Суббота, воскресенье - выходные д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712880"/>
          <a:ext cx="8230680" cy="4308120"/>
        </p:xfrm>
        <a:graphic>
          <a:graphicData uri="http://schemas.openxmlformats.org/drawingml/2006/table">
            <a:tbl>
              <a:tblPr/>
              <a:tblGrid>
                <a:gridCol w="2675160"/>
                <a:gridCol w="5555520"/>
              </a:tblGrid>
              <a:tr h="1195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да проводятся публичные слуш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 бюджете на очередной финансовый год и на плановый перио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343080" indent="-34308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б исполнении бюджета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7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информируются граждане о проведении публичных слуша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вещение о проведении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щается на официальном сайте Администрации Большесолдат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2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яется итоговый документ публичных слушаний с учетом высказанных экспертами рекомендаций и предложений. Итоговый документ размещается на официальном сайте Администрации Большесолдатского района Курской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можно получить дополнительную информацию о публичных слушания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ительное Собрание Большесолдатского района Курской области по адресу: 307850,  Большесолдатский район, с. Большое Солдатское, ул. Мира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7120" y="4214880"/>
            <a:ext cx="84297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БЮДЖЕТ ДЛЯ ГРАЖДАН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6640" y="2560680"/>
            <a:ext cx="4511880" cy="165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419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2920" y="9720"/>
            <a:ext cx="5214960" cy="27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4 года все финансовые органы страны составляют на регулярной основе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й аналитический докумен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одержит основные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закона (решения) о бюджете и отчета о его исполнении в доступной и понятной форме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ержите в рука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знакомит вас с основными положениями бюджета муниципального района «Большесолдатский район» Курской области за 2019 год 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3680" y="15228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105264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just">
              <a:lnSpc>
                <a:spcPct val="70000"/>
              </a:lnSpc>
              <a:spcBef>
                <a:spcPts val="388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юджет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доходов и расходов для  обеспечения задач и   функций государ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3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Программный бюджет»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, сформированный в соответствии с утвержденными муниципальными программа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фицит бюджета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ная часть бюджета превышает доходную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фицит бюджета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 остаток бюдж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ходная часть бюджета превышает расходную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юджет для граждан об исполнении составляется на один г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8120" y="79200"/>
            <a:ext cx="8388360" cy="1463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42960" y="1773360"/>
          <a:ext cx="8002080" cy="4555800"/>
        </p:xfrm>
        <a:graphic>
          <a:graphicData uri="http://schemas.openxmlformats.org/drawingml/2006/table">
            <a:tbl>
              <a:tblPr/>
              <a:tblGrid>
                <a:gridCol w="4000680"/>
                <a:gridCol w="4001400"/>
              </a:tblGrid>
              <a:tr h="97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21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8 130,457    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3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2 682,909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2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 447,548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852640" y="2992320"/>
            <a:ext cx="312732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15920" y="66600"/>
            <a:ext cx="8831160" cy="852480"/>
            <a:chOff x="115920" y="66600"/>
            <a:chExt cx="8831160" cy="8524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15920" y="66600"/>
              <a:ext cx="8831160" cy="8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209520" y="171360"/>
              <a:ext cx="8656560" cy="666720"/>
              <a:chOff x="209520" y="171360"/>
              <a:chExt cx="8656560" cy="666720"/>
            </a:xfrm>
          </p:grpSpPr>
          <p:pic>
            <p:nvPicPr>
              <p:cNvPr id="1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520" y="171360"/>
                <a:ext cx="8656560" cy="6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254160" y="184320"/>
                <a:ext cx="825948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nstantia"/>
                    <a:ea typeface="DejaVu Sans"/>
                  </a:rPr>
                  <a:t>Доходы бюджета</a:t>
                </a:r>
                <a:endParaRPr b="0" lang="en-US" sz="24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2627280" y="981000"/>
            <a:ext cx="5399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Поступающие в бюджет денежные средства являются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ДОХОДАМИ БЮДЖЕТ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 rot="2340000">
            <a:off x="3131640" y="1773360"/>
            <a:ext cx="223920" cy="1025280"/>
          </a:xfrm>
          <a:custGeom>
            <a:avLst/>
            <a:gdLst/>
            <a:ahLst/>
            <a:rect l="l" t="t" r="r" b="b"/>
            <a:pathLst>
              <a:path w="654" h="2848">
                <a:moveTo>
                  <a:pt x="0" y="1202"/>
                </a:moveTo>
                <a:lnTo>
                  <a:pt x="638" y="1202"/>
                </a:lnTo>
                <a:lnTo>
                  <a:pt x="638" y="0"/>
                </a:lnTo>
                <a:lnTo>
                  <a:pt x="-16" y="0"/>
                </a:lnTo>
                <a:lnTo>
                  <a:pt x="-16" y="1202"/>
                </a:lnTo>
                <a:lnTo>
                  <a:pt x="622" y="1202"/>
                </a:lnTo>
                <a:lnTo>
                  <a:pt x="311" y="2848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 rot="19260000">
            <a:off x="7234200" y="1774440"/>
            <a:ext cx="223920" cy="1006560"/>
          </a:xfrm>
          <a:custGeom>
            <a:avLst/>
            <a:gdLst/>
            <a:ahLst/>
            <a:rect l="l" t="t" r="r" b="b"/>
            <a:pathLst>
              <a:path w="653" h="2795">
                <a:moveTo>
                  <a:pt x="0" y="951"/>
                </a:moveTo>
                <a:lnTo>
                  <a:pt x="637" y="951"/>
                </a:lnTo>
                <a:lnTo>
                  <a:pt x="637" y="0"/>
                </a:lnTo>
                <a:lnTo>
                  <a:pt x="-16" y="0"/>
                </a:lnTo>
                <a:lnTo>
                  <a:pt x="-16" y="951"/>
                </a:lnTo>
                <a:lnTo>
                  <a:pt x="621" y="951"/>
                </a:lnTo>
                <a:lnTo>
                  <a:pt x="311" y="2795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1844640"/>
            <a:ext cx="223920" cy="936720"/>
          </a:xfrm>
          <a:custGeom>
            <a:avLst/>
            <a:gdLst/>
            <a:ahLst/>
            <a:rect l="l" t="t" r="r" b="b"/>
            <a:pathLst>
              <a:path w="654" h="2602">
                <a:moveTo>
                  <a:pt x="0" y="1368"/>
                </a:moveTo>
                <a:lnTo>
                  <a:pt x="638" y="1368"/>
                </a:lnTo>
                <a:lnTo>
                  <a:pt x="638" y="0"/>
                </a:lnTo>
                <a:lnTo>
                  <a:pt x="-16" y="0"/>
                </a:lnTo>
                <a:lnTo>
                  <a:pt x="-16" y="1368"/>
                </a:lnTo>
                <a:lnTo>
                  <a:pt x="622" y="1368"/>
                </a:lnTo>
                <a:lnTo>
                  <a:pt x="311" y="2602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39760" y="2981160"/>
            <a:ext cx="2644920" cy="3765600"/>
            <a:chOff x="1139760" y="2981160"/>
            <a:chExt cx="2644920" cy="376560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139760" y="2981160"/>
              <a:ext cx="264492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297080" y="3106800"/>
              <a:ext cx="2011320" cy="31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АЛОГИ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часть доходов граждан и организаций, которые они обязаны заплатить государству (например, налог на доходы физических лиц, налог на прибыль, налог на имущество физических лиц, земельный налог, транспортный налог и др.)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76840" y="2981160"/>
            <a:ext cx="2717640" cy="3765600"/>
            <a:chOff x="3876840" y="2981160"/>
            <a:chExt cx="2717640" cy="3765600"/>
          </a:xfrm>
        </p:grpSpPr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3876840" y="2981160"/>
              <a:ext cx="271764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037040" y="3110040"/>
              <a:ext cx="207648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ЕНАЛОГОВЫЕ ДОХОДЫ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платежи в виде штрафов, санкций за нарушение законодательства, платежи за пользование имуществом государства, средства самообложения граждан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540480" y="3048120"/>
            <a:ext cx="2718000" cy="3698640"/>
            <a:chOff x="6540480" y="3048120"/>
            <a:chExt cx="2718000" cy="369864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6540480" y="3048120"/>
              <a:ext cx="2718000" cy="36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700680" y="3181320"/>
              <a:ext cx="2076480" cy="30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БЕЗВОЗМЕЗДНЫЕ ПОСТУПЛЕНИЯ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–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средства, которые поступают в бюджет безвозмездно (денежные средства, поступающие из вышестоящего бюджета (например, дотация из областного бюджета), а также безвозмездные перечисления от физических и юридических лиц) 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179280" y="981000"/>
            <a:ext cx="25923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14200" y="1071720"/>
          <a:ext cx="8751600" cy="5643000"/>
        </p:xfrm>
        <a:graphic>
          <a:graphicData uri="http://schemas.openxmlformats.org/drawingml/2006/table">
            <a:tbl>
              <a:tblPr/>
              <a:tblGrid>
                <a:gridCol w="2964240"/>
                <a:gridCol w="2423160"/>
                <a:gridCol w="3364200"/>
              </a:tblGrid>
              <a:tr h="78264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я в семейном бюдж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3320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«карманные день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</a:tr>
              <a:tr h="188496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данных»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-правов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ям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</a:tr>
              <a:tr h="16434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«добавляете» денег для того, чт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ебенок купил себе новый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остальные он накопил с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571760" y="0"/>
            <a:ext cx="56689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жбюджетные трансферты - основной вид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38224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42920" y="714240"/>
          <a:ext cx="8859600" cy="5763960"/>
        </p:xfrm>
        <a:graphic>
          <a:graphicData uri="http://schemas.openxmlformats.org/drawingml/2006/table">
            <a:tbl>
              <a:tblPr/>
              <a:tblGrid>
                <a:gridCol w="1523880"/>
                <a:gridCol w="3704400"/>
                <a:gridCol w="1816560"/>
                <a:gridCol w="1814760"/>
              </a:tblGrid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22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2 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 188,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897,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 65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 651,7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, реализуемые на территории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30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59,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47,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25,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,5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4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8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5,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,2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,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9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8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,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,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4,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9,4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0920" y="1268280"/>
          <a:ext cx="8570520" cy="5392440"/>
        </p:xfrm>
        <a:graphic>
          <a:graphicData uri="http://schemas.openxmlformats.org/drawingml/2006/table">
            <a:tbl>
              <a:tblPr/>
              <a:tblGrid>
                <a:gridCol w="1487520"/>
                <a:gridCol w="4058640"/>
                <a:gridCol w="1584720"/>
                <a:gridCol w="1439640"/>
              </a:tblGrid>
              <a:tr h="75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7 165,6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4 232,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5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9 142,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6 209,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365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 365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 161,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 863,5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 бюджетной системы 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 592,3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 957,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3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976,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976,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382240" cy="10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1:14:49Z</dcterms:created>
  <dc:creator>Людмила Михайловна</dc:creator>
  <dc:description/>
  <dc:language>en-US</dc:language>
  <cp:lastModifiedBy>тест</cp:lastModifiedBy>
  <cp:lastPrinted>2017-05-22T12:51:03Z</cp:lastPrinted>
  <dcterms:modified xsi:type="dcterms:W3CDTF">2023-04-27T07:53:51Z</dcterms:modified>
  <cp:revision>627</cp:revision>
  <dc:subject/>
  <dc:title>Муниципальное образование Большесолдатский муниципальный район Кур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