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9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8.png" ContentType="image/png"/>
  <Override PartName="/ppt/media/image8.jpeg" ContentType="image/jpeg"/>
  <Override PartName="/ppt/media/image39.jpeg" ContentType="image/jpe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AA0C5-AC2B-435A-9CEE-C4279854EE66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14920" y="9374040"/>
            <a:ext cx="2919240" cy="49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2A19BE-D3DA-4201-B042-C46D0FCCC6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55720" y="-6480"/>
            <a:ext cx="5108760" cy="1444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63640" y="1643040"/>
            <a:ext cx="590400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БЮДЖЕТ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ДЛЯ ГРАЖДАН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о проекту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33200" y="208080"/>
            <a:ext cx="1731960" cy="1981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699240" y="122400"/>
            <a:ext cx="2243160" cy="2017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71360" y="2992320"/>
            <a:ext cx="4192560" cy="3537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00720" y="2997360"/>
            <a:ext cx="4643280" cy="345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годового отчета об исполнении бюджета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муниципального района 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«Большесолдатский район»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Курской области за 2020 год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90600" y="506520"/>
            <a:ext cx="8240760" cy="974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85680" y="1571760"/>
            <a:ext cx="8928000" cy="51433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50720" y="219240"/>
            <a:ext cx="8242560" cy="84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179280" y="1052640"/>
          <a:ext cx="8786520" cy="5617800"/>
        </p:xfrm>
        <a:graphic>
          <a:graphicData uri="http://schemas.openxmlformats.org/drawingml/2006/table">
            <a:tbl>
              <a:tblPr/>
              <a:tblGrid>
                <a:gridCol w="936720"/>
                <a:gridCol w="4799880"/>
                <a:gridCol w="1525680"/>
                <a:gridCol w="1524240"/>
              </a:tblGrid>
              <a:tr h="54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на 2020 год </a:t>
                      </a:r>
                      <a:r>
                        <a:rPr b="1" lang="ru-RU" sz="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 за 2020 год  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8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640 008,9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605 441,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8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45 407,0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35 418,0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6844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высшего должностного лица субъекта Российской Федерации и муниципального образ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83,7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83,7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9416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законодательных (представительных) органов государственной власти и представительных органов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25,1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25,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9236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367,4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354,5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4308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дебная сис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9416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282,4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270,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4128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ервные фон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4272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997,7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083,8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0720" y="237960"/>
            <a:ext cx="8242560" cy="118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"/>
          <p:cNvGraphicFramePr/>
          <p:nvPr/>
        </p:nvGraphicFramePr>
        <p:xfrm>
          <a:off x="179280" y="1413000"/>
          <a:ext cx="8715240" cy="5162040"/>
        </p:xfrm>
        <a:graphic>
          <a:graphicData uri="http://schemas.openxmlformats.org/drawingml/2006/table">
            <a:tbl>
              <a:tblPr/>
              <a:tblGrid>
                <a:gridCol w="1078200"/>
                <a:gridCol w="4539600"/>
                <a:gridCol w="1657800"/>
                <a:gridCol w="143964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на 2020 год      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 за 2020 год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58716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209,4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209,4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2116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 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та населения и территории от чрезвычайных ситуаций природного и техногенного характера, гражданск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9,4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9,4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5424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108 749,0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103 974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0832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экономически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5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9,8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8240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0500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жное хозяйство (дорожные фонд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 169,7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 517,1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5424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национальной эконом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24,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17,5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5556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1 154,7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660,4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5424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54,7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0,4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112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179280" y="1484280"/>
          <a:ext cx="8786520" cy="5054400"/>
        </p:xfrm>
        <a:graphic>
          <a:graphicData uri="http://schemas.openxmlformats.org/drawingml/2006/table">
            <a:tbl>
              <a:tblPr/>
              <a:tblGrid>
                <a:gridCol w="1087560"/>
                <a:gridCol w="4601160"/>
                <a:gridCol w="1584720"/>
                <a:gridCol w="1513080"/>
              </a:tblGrid>
              <a:tr h="631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на 2020 год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 за 2020 год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44640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268 021,7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262 787,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4604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школьно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520,4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289,7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4640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3 455,8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8 762,4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4460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олнительное образование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427,2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173,7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332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еж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35,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30,4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0032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483,2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430,7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4604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23 035,3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22 954,3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4640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764,3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683,4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2400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 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культуры, кинемат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270,9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270,8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2544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равоохра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122,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120,4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2364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 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нитарно-эпидемиологическое благополу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,4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50720" y="182520"/>
            <a:ext cx="10618920" cy="109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179280" y="1197000"/>
          <a:ext cx="8715240" cy="5473440"/>
        </p:xfrm>
        <a:graphic>
          <a:graphicData uri="http://schemas.openxmlformats.org/drawingml/2006/table">
            <a:tbl>
              <a:tblPr/>
              <a:tblGrid>
                <a:gridCol w="1078200"/>
                <a:gridCol w="4207680"/>
                <a:gridCol w="1740240"/>
                <a:gridCol w="1689120"/>
              </a:tblGrid>
              <a:tr h="561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на 2020 год  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2020 год   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,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5244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51 926,8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50 460,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5280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нсион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,6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5064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е обеспечение на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345,7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060,9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5244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семьи и дет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65,4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401,3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5460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социальной поли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35,6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35,6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5064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134 437,7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121 911,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5244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овый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4 437,7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 911,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1468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общего характера бюджетам субъектов Российской Федерации и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6 944,7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6 944,7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81648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на выравнивание бюджетной обеспеченности субъектов Российской Федерации и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641,6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641,6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14320">
                <a:tc>
                  <a:txBody>
                    <a:bodyPr lIns="106560" rIns="10656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межбюджетные трансферты общего характ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3,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3,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7892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"/>
          <p:cNvGraphicFramePr/>
          <p:nvPr/>
        </p:nvGraphicFramePr>
        <p:xfrm>
          <a:off x="250920" y="1387440"/>
          <a:ext cx="8714880" cy="5168520"/>
        </p:xfrm>
        <a:graphic>
          <a:graphicData uri="http://schemas.openxmlformats.org/drawingml/2006/table">
            <a:tbl>
              <a:tblPr/>
              <a:tblGrid>
                <a:gridCol w="3816720"/>
                <a:gridCol w="1468800"/>
                <a:gridCol w="1740240"/>
                <a:gridCol w="1689120"/>
              </a:tblGrid>
              <a:tr h="51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раздела по бюджет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инансирование  из бюджета муниципального района 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году, за счет средст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8680">
                <a:tc>
                  <a:txBody>
                    <a:bodyPr lIns="106560" rIns="1065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раздела по бюджетной классифик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дер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лас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23280"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38840"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38480"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25080"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23280"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равоохра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94560"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39200"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04400"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общего характера бюджетам субъектов Российской Федерации и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14360" y="328680"/>
            <a:ext cx="8242200" cy="5428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50920" y="1000080"/>
            <a:ext cx="547344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униципальной программой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вляется комплекс мероприятий взаимосвязанных по задачам, срокам осуществления и ресурсам в сфере социально-экономического развития Большесолдатского района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В 2020 году из бюджета муниципального района «Большесолдатский район» Курской области осуществлялось финансирование на реализацию мероприятий по 16 муниципальным программам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651640" y="981000"/>
            <a:ext cx="2808000" cy="3456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244440" y="3713040"/>
            <a:ext cx="4479840" cy="303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5072040" y="4572000"/>
            <a:ext cx="382752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11040" y="109440"/>
            <a:ext cx="8442360" cy="665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9280" y="907920"/>
            <a:ext cx="87854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68360" y="907920"/>
          <a:ext cx="8281440" cy="5662440"/>
        </p:xfrm>
        <a:graphic>
          <a:graphicData uri="http://schemas.openxmlformats.org/drawingml/2006/table">
            <a:tbl>
              <a:tblPr/>
              <a:tblGrid>
                <a:gridCol w="6452640"/>
                <a:gridCol w="1828800"/>
              </a:tblGrid>
              <a:tr h="970920"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 за 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</a:tcPr>
                </a:tc>
              </a:tr>
              <a:tr h="24300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5 708,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49248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Развитие культуры в Большесолдатском районе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472,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49248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Социальная поддержка граждан Большесолдатского района Курской област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455,8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49104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Развитие образования Большесолдатского района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2 260,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2200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Энергосбережение и повышение энергетической эффективности в Большесолдатском районе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9,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49248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Охрана окружающей среды Большесолдатского района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5,7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65304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Обеспечение доступным и комфортным жильем и коммунальными услугами граждан Большесолдатского района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11,7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81360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Повышение эффективности работы с молодежью, организация отдыха и оздоровления детей, молодежи, развитие физической культуры и спорта в Большесолдатском  районе  Курской области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 041,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49140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Развитие муниципальной службы  Большесолдатского района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0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50920" y="1341360"/>
          <a:ext cx="8570520" cy="5470200"/>
        </p:xfrm>
        <a:graphic>
          <a:graphicData uri="http://schemas.openxmlformats.org/drawingml/2006/table">
            <a:tbl>
              <a:tblPr/>
              <a:tblGrid>
                <a:gridCol w="6654240"/>
                <a:gridCol w="1916280"/>
              </a:tblGrid>
              <a:tr h="394200"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 за 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</a:tcPr>
                </a:tc>
              </a:tr>
              <a:tr h="53100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Сохранение и развитие архивного дела Большесолдатского района Курской области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4,6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70920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«Развитие транспортной системы, обеспечение перевозки пассажиров и безопасности дорожного движения Большесолдатского района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 907,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47772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Профилактика правонарушений в Большесолдатском районе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4,8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47304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Повышение эффективности управления финансами Большесолдатского района Курской области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215,0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47376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«Развитие малого и среднего предпринимательства Большесолдатского района Курской области 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,4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62208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Содействие занятости населения Большесолдатского района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9,8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81972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«Социальное развитие села Большесолдатского района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97092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«Защита населения и территории от чрезвычайных ситуаций, обеспечение пожарной безопасности и  безопасности людей на водных объектах в Большесолдатском районе Курской области 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9,4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468360" y="33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Расходы бюджета на реализацию муниципальных программ муниципального района «Большесолдатского район» Курской области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0720" y="85680"/>
            <a:ext cx="8242560" cy="1414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17600" y="1577880"/>
            <a:ext cx="822960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14360" y="122400"/>
            <a:ext cx="5700600" cy="2743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85840" y="2643120"/>
            <a:ext cx="87152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4b3e21"/>
                </a:solidFill>
                <a:latin typeface="Times New Roman"/>
              </a:rPr>
              <a:t>В 2020 году в районе в отрасли образования функционировало 24 учреждения, в отрасли культуры функционировало 3 учреждения, 1 учреждение по обслуживанию органов местного самоуправления,  6 учреждений  органов местного самоуправления, 7 сельских поселений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780080" y="3992400"/>
            <a:ext cx="4082760" cy="2732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012000" y="189000"/>
            <a:ext cx="2946240" cy="1962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244440" y="3998880"/>
            <a:ext cx="426096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53880" y="109440"/>
            <a:ext cx="8429760" cy="176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395280" y="1989000"/>
          <a:ext cx="8426160" cy="4398840"/>
        </p:xfrm>
        <a:graphic>
          <a:graphicData uri="http://schemas.openxmlformats.org/drawingml/2006/table">
            <a:tbl>
              <a:tblPr/>
              <a:tblGrid>
                <a:gridCol w="7218360"/>
                <a:gridCol w="12078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ы дорожного фонда по направлениям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a8a14"/>
                        </a:gs>
                        <a:gs pos="100000">
                          <a:srgbClr val="4f400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тыс.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a8a14"/>
                        </a:gs>
                        <a:gs pos="100000">
                          <a:srgbClr val="4f400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79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ирование, строительство, реконструкция сети автомобильных дорог общего пользования (за исключением автомобильных дорог федерального значения) с твердым покрытием до сельских населенных пунктов, не имеющих круглогодичной связи с сетью автомобильных дорог общего пользования, а также их капитальный ремонт и ремо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 895,1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3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конструкцию  сети автомобильных дорог общего пользования и искусственных сооружений на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 588,6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98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итальный ремонт и ремонт сети автомобильных дорог общего пользования и искусственных сооружений на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 713 00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91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 сети автомобильных дорог общего пользования и искусственных сооружений на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 35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держка дорожного хозяй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</a:tr>
              <a:tr h="49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 сети автомобильных дорог общего пользования и искусственных сооружений на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,9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</a:tr>
              <a:tr h="46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 517,1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</a:tr>
            </a:tbl>
          </a:graphicData>
        </a:graphic>
      </p:graphicFrame>
      <p:grpSp>
        <p:nvGrpSpPr>
          <p:cNvPr id="193" name=""/>
          <p:cNvGrpSpPr/>
          <p:nvPr/>
        </p:nvGrpSpPr>
        <p:grpSpPr>
          <a:xfrm>
            <a:off x="115920" y="225360"/>
            <a:ext cx="8831160" cy="766800"/>
            <a:chOff x="115920" y="225360"/>
            <a:chExt cx="8831160" cy="766800"/>
          </a:xfrm>
        </p:grpSpPr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>
              <a:off x="115920" y="225360"/>
              <a:ext cx="883116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210960" y="291960"/>
              <a:ext cx="8649000" cy="58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ru-RU" sz="2400" spc="-1" strike="noStrike">
                  <a:solidFill>
                    <a:srgbClr val="3333cc"/>
                  </a:solidFill>
                  <a:latin typeface="Times New Roman"/>
                  <a:ea typeface="DejaVu Sans"/>
                </a:rPr>
                <a:t>Дорожный фонд Большесолдатского района за 2020 год</a:t>
              </a:r>
              <a:endParaRPr b="0" lang="en-US" sz="2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</p:spTree>
  </p:cSld>
  <p:transition spd="med" advTm="5000">
    <p:blinds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nodeType="clickEffect" fill="hold">
                      <p:stCondLst>
                        <p:cond delay="0"/>
                      </p:stCondLst>
                      <p:childTnLst>
                        <p:par>
                          <p:cTn id="1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419720" y="115920"/>
            <a:ext cx="4610160" cy="34574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84360" y="260280"/>
            <a:ext cx="8064360" cy="62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Под муниципальным долгом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понимается совокупность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долговых обязательств муниципального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образования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Муниципальный долг полностью и без условий обеспечивается всем муниципальным имуществом, составляющим муниципальную казну. 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  <a:ea typeface="DejaVu Sans"/>
              </a:rPr>
              <a:t>Расходы на обслуживание муниципального долга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  <a:ea typeface="DejaVu Sans"/>
              </a:rPr>
              <a:t>за 2020 год составил 0 тыс. рублей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По состоянию на 01.01.2021 год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(как и на 01.01.2020 года) муниципальный район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«Большесолдатский район»  Курской области задолженности по бюджетным кредитам, предоставленным из областного бюджета,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не имеет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 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В 2020 году из областного бюджета бюджету муниципального района бюджетные кредиты не выдавали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767560" y="4121280"/>
            <a:ext cx="3290760" cy="2468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50720" y="249120"/>
            <a:ext cx="8242560" cy="1744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57200" y="2349360"/>
            <a:ext cx="80024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6120" indent="-409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307850, Курская обл.,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6120" indent="-409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с. Большое Солдатское,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6120" indent="-409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ул. Кооперативная, 21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6120" indent="-409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Управление финансов Администрации Большесолдатского района Курской област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6120" indent="-409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факс:(47136) 2-13-94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6120" indent="-409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тел.: (47136)  2-14-43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6120" indent="-409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E-mail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bsupr@mail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6120" indent="-409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График работы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: понедельник-пятница с 8-00 до 16-00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6120" indent="-409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u-RU" sz="2000" spc="-1" strike="noStrike">
                <a:solidFill>
                  <a:srgbClr val="3333cc"/>
                </a:solidFill>
                <a:latin typeface="Times New Roman"/>
              </a:rPr>
              <a:t>Суббота, воскресенье - выходные дн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242560" cy="153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457200" y="1712880"/>
          <a:ext cx="8230680" cy="4308120"/>
        </p:xfrm>
        <a:graphic>
          <a:graphicData uri="http://schemas.openxmlformats.org/drawingml/2006/table">
            <a:tbl>
              <a:tblPr/>
              <a:tblGrid>
                <a:gridCol w="2675160"/>
                <a:gridCol w="5555520"/>
              </a:tblGrid>
              <a:tr h="11959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гда проводятся публичные слушания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1280" indent="-341280" algn="just">
                        <a:lnSpc>
                          <a:spcPct val="83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рассмотрении проекта закона о бюджете на очередной финансовый год и на плановый период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341280" indent="-341280" algn="just">
                        <a:lnSpc>
                          <a:spcPct val="96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рассмотрении проекта закона об исполнении бюджета за отчетный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07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информируются граждане о проведении публичных слушаний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вещение о проведении публичных слуш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мещается на официальном сайте Администрации Большесолдатского района Курской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20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 публичных слуш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формляется итоговый документ публичных слушаний с учетом высказанных экспертами рекомендаций и предложений. Итоговый документ размещается на официальном сайте Администрации Большесолдатского района Курской обла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83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де можно получить дополнительную информацию о публичных слушаниях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ставительное Собрание Большесолдатского района Курской области по адресу: 307850,  Большесолдатский район, с. Большое Солдатское, ул. Мира,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57120" y="4214880"/>
            <a:ext cx="842976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БЮДЖЕТ ДЛЯ ГРАЖДАН –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66640" y="2560680"/>
            <a:ext cx="4511880" cy="1657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572080" y="214200"/>
            <a:ext cx="3357720" cy="2419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42920" y="-720"/>
            <a:ext cx="52149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2014 года все финансовые органы страны составляют на регулярной основе 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ьный аналитический докумен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для гражда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содержит основные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я закона (решения) о бюджете и отчета о его исполнении в доступной и понятной форме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держите в руках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для гражда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познакомит вас с основными положениями бюджета муниципального района «Большесолдатский район» Курской области за 2019 год 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3680" y="152280"/>
            <a:ext cx="8242200" cy="1122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68360" y="1052640"/>
            <a:ext cx="8207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 algn="just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юджет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 доходов и расходов для  обеспечения задач и   функций государств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«Программный бюджет»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юджет, сформированный в соответствии с утвержденными муниципальными программами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Дефицит бюджета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ходная часть бюджета превышает доходную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Профицит бюджета -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жительный остаток бюдже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доходная часть бюджета превышает расходную)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Бюджет для граждан об исполнении составляется на один год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38120" y="79200"/>
            <a:ext cx="8388360" cy="1463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42960" y="1773360"/>
          <a:ext cx="8002080" cy="4758840"/>
        </p:xfrm>
        <a:graphic>
          <a:graphicData uri="http://schemas.openxmlformats.org/drawingml/2006/table">
            <a:tbl>
              <a:tblPr/>
              <a:tblGrid>
                <a:gridCol w="4000680"/>
                <a:gridCol w="4001400"/>
              </a:tblGrid>
              <a:tr h="993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                                      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тыс. рубл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ассовое испол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219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2 145,74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55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5 441,04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993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фиц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 295,30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852640" y="2992320"/>
            <a:ext cx="3127320" cy="28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15920" y="66600"/>
            <a:ext cx="8831160" cy="852480"/>
            <a:chOff x="115920" y="66600"/>
            <a:chExt cx="8831160" cy="852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115920" y="66600"/>
              <a:ext cx="8831160" cy="85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209520" y="171360"/>
              <a:ext cx="8656560" cy="666720"/>
              <a:chOff x="209520" y="171360"/>
              <a:chExt cx="8656560" cy="666720"/>
            </a:xfrm>
          </p:grpSpPr>
          <p:pic>
            <p:nvPicPr>
              <p:cNvPr id="14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9520" y="171360"/>
                <a:ext cx="8656560" cy="6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254160" y="184320"/>
                <a:ext cx="8259480" cy="401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onstantia"/>
                    <a:ea typeface="DejaVu Sans"/>
                  </a:rPr>
                  <a:t>Доходы бюджета</a:t>
                </a:r>
                <a:endParaRPr b="0" lang="en-US" sz="24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</p:grpSp>
      <p:sp>
        <p:nvSpPr>
          <p:cNvPr id="147" name=""/>
          <p:cNvSpPr/>
          <p:nvPr/>
        </p:nvSpPr>
        <p:spPr>
          <a:xfrm>
            <a:off x="2627280" y="981000"/>
            <a:ext cx="5399280" cy="82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Constantia"/>
                <a:ea typeface="DejaVu Sans"/>
              </a:rPr>
              <a:t>Поступающие в бюджет денежные средства являются 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Constantia"/>
                <a:ea typeface="DejaVu Sans"/>
              </a:rPr>
              <a:t>ДОХОДАМИ БЮДЖЕТА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8" name=""/>
          <p:cNvSpPr/>
          <p:nvPr/>
        </p:nvSpPr>
        <p:spPr>
          <a:xfrm rot="2340000">
            <a:off x="3131640" y="1773360"/>
            <a:ext cx="223920" cy="1025280"/>
          </a:xfrm>
          <a:custGeom>
            <a:avLst/>
            <a:gdLst/>
            <a:ahLst/>
            <a:rect l="l" t="t" r="r" b="b"/>
            <a:pathLst>
              <a:path w="623" h="2850">
                <a:moveTo>
                  <a:pt x="155" y="0"/>
                </a:moveTo>
                <a:lnTo>
                  <a:pt x="155" y="2454"/>
                </a:lnTo>
                <a:lnTo>
                  <a:pt x="0" y="2454"/>
                </a:lnTo>
                <a:lnTo>
                  <a:pt x="311" y="2850"/>
                </a:lnTo>
                <a:lnTo>
                  <a:pt x="623" y="2454"/>
                </a:lnTo>
                <a:lnTo>
                  <a:pt x="467" y="2454"/>
                </a:lnTo>
                <a:lnTo>
                  <a:pt x="468" y="0"/>
                </a:lnTo>
                <a:lnTo>
                  <a:pt x="155" y="0"/>
                </a:lnTo>
              </a:path>
            </a:pathLst>
          </a:cu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9" name=""/>
          <p:cNvSpPr/>
          <p:nvPr/>
        </p:nvSpPr>
        <p:spPr>
          <a:xfrm rot="19260000">
            <a:off x="7234200" y="1774440"/>
            <a:ext cx="223920" cy="1006560"/>
          </a:xfrm>
          <a:custGeom>
            <a:avLst/>
            <a:gdLst/>
            <a:ahLst/>
            <a:rect l="l" t="t" r="r" b="b"/>
            <a:pathLst>
              <a:path w="622" h="2796">
                <a:moveTo>
                  <a:pt x="153" y="0"/>
                </a:moveTo>
                <a:lnTo>
                  <a:pt x="155" y="2484"/>
                </a:lnTo>
                <a:lnTo>
                  <a:pt x="0" y="2484"/>
                </a:lnTo>
                <a:lnTo>
                  <a:pt x="311" y="2796"/>
                </a:lnTo>
                <a:lnTo>
                  <a:pt x="622" y="2484"/>
                </a:lnTo>
                <a:lnTo>
                  <a:pt x="466" y="2484"/>
                </a:lnTo>
                <a:lnTo>
                  <a:pt x="465" y="0"/>
                </a:lnTo>
                <a:lnTo>
                  <a:pt x="153" y="0"/>
                </a:lnTo>
              </a:path>
            </a:pathLst>
          </a:cu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0" name=""/>
          <p:cNvSpPr/>
          <p:nvPr/>
        </p:nvSpPr>
        <p:spPr>
          <a:xfrm>
            <a:off x="5003640" y="1844640"/>
            <a:ext cx="223920" cy="936720"/>
          </a:xfrm>
          <a:custGeom>
            <a:avLst/>
            <a:gdLst/>
            <a:ahLst/>
            <a:rect l="l" t="t" r="r" b="b"/>
            <a:pathLst>
              <a:path w="623" h="2603">
                <a:moveTo>
                  <a:pt x="155" y="0"/>
                </a:moveTo>
                <a:lnTo>
                  <a:pt x="155" y="2154"/>
                </a:lnTo>
                <a:lnTo>
                  <a:pt x="0" y="2154"/>
                </a:lnTo>
                <a:lnTo>
                  <a:pt x="311" y="2603"/>
                </a:lnTo>
                <a:lnTo>
                  <a:pt x="623" y="2154"/>
                </a:lnTo>
                <a:lnTo>
                  <a:pt x="467" y="2154"/>
                </a:lnTo>
                <a:lnTo>
                  <a:pt x="467" y="0"/>
                </a:lnTo>
                <a:lnTo>
                  <a:pt x="155" y="0"/>
                </a:lnTo>
              </a:path>
            </a:pathLst>
          </a:cu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139760" y="2981160"/>
            <a:ext cx="2644920" cy="3765600"/>
            <a:chOff x="1139760" y="2981160"/>
            <a:chExt cx="2644920" cy="3765600"/>
          </a:xfrm>
        </p:grpSpPr>
        <p:pic>
          <p:nvPicPr>
            <p:cNvPr id="152" name="" descr=""/>
            <p:cNvPicPr/>
            <p:nvPr/>
          </p:nvPicPr>
          <p:blipFill>
            <a:blip r:embed="rId4"/>
            <a:stretch/>
          </p:blipFill>
          <p:spPr>
            <a:xfrm>
              <a:off x="1139760" y="2981160"/>
              <a:ext cx="2644920" cy="37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297080" y="3106800"/>
              <a:ext cx="2011320" cy="316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Constantia"/>
                  <a:ea typeface="DejaVu Sans"/>
                </a:rPr>
                <a:t>НАЛОГИ</a:t>
              </a:r>
              <a:r>
                <a:rPr b="0" lang="ru-RU" sz="1400" spc="-1" strike="noStrike">
                  <a:solidFill>
                    <a:srgbClr val="ffffff"/>
                  </a:solidFill>
                  <a:latin typeface="Constantia"/>
                  <a:ea typeface="DejaVu Sans"/>
                </a:rPr>
                <a:t> </a:t>
              </a:r>
              <a:r>
                <a:rPr b="0" lang="ru-RU" sz="1400" spc="-1" strike="noStrike">
                  <a:solidFill>
                    <a:srgbClr val="f1ebdf"/>
                  </a:solidFill>
                  <a:latin typeface="Constantia"/>
                  <a:ea typeface="DejaVu Sans"/>
                </a:rPr>
                <a:t>– часть доходов граждан и организаций, которые они обязаны заплатить государству (например, налог на доходы физических лиц, налог на прибыль, налог на имущество физических лиц, земельный налог, транспортный налог и др.)</a:t>
              </a:r>
              <a:endParaRPr b="0" lang="en-US" sz="1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876840" y="2981160"/>
            <a:ext cx="2717640" cy="3765600"/>
            <a:chOff x="3876840" y="2981160"/>
            <a:chExt cx="2717640" cy="3765600"/>
          </a:xfrm>
        </p:grpSpPr>
        <p:pic>
          <p:nvPicPr>
            <p:cNvPr id="155" name="" descr=""/>
            <p:cNvPicPr/>
            <p:nvPr/>
          </p:nvPicPr>
          <p:blipFill>
            <a:blip r:embed="rId5"/>
            <a:stretch/>
          </p:blipFill>
          <p:spPr>
            <a:xfrm>
              <a:off x="3876840" y="2981160"/>
              <a:ext cx="2717640" cy="37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037040" y="3110040"/>
              <a:ext cx="2076480" cy="315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Constantia"/>
                  <a:ea typeface="DejaVu Sans"/>
                </a:rPr>
                <a:t>НЕНАЛОГОВЫЕ ДОХОДЫ</a:t>
              </a:r>
              <a:r>
                <a:rPr b="1" lang="ru-RU" sz="1400" spc="-1" strike="noStrike">
                  <a:solidFill>
                    <a:srgbClr val="ffffff"/>
                  </a:solidFill>
                  <a:latin typeface="Constantia"/>
                  <a:ea typeface="DejaVu Sans"/>
                </a:rPr>
                <a:t> </a:t>
              </a:r>
              <a:r>
                <a:rPr b="0" lang="ru-RU" sz="1400" spc="-1" strike="noStrike">
                  <a:solidFill>
                    <a:srgbClr val="f1ebdf"/>
                  </a:solidFill>
                  <a:latin typeface="Constantia"/>
                  <a:ea typeface="DejaVu Sans"/>
                </a:rPr>
                <a:t>– платежи в виде штрафов, санкций за нарушение законодательства, платежи за пользование имуществом государства, средства самообложения граждан</a:t>
              </a:r>
              <a:endParaRPr b="0" lang="en-US" sz="1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540480" y="3048120"/>
            <a:ext cx="2718000" cy="3698640"/>
            <a:chOff x="6540480" y="3048120"/>
            <a:chExt cx="2718000" cy="3698640"/>
          </a:xfrm>
        </p:grpSpPr>
        <p:pic>
          <p:nvPicPr>
            <p:cNvPr id="158" name="" descr=""/>
            <p:cNvPicPr/>
            <p:nvPr/>
          </p:nvPicPr>
          <p:blipFill>
            <a:blip r:embed="rId6"/>
            <a:stretch/>
          </p:blipFill>
          <p:spPr>
            <a:xfrm>
              <a:off x="6540480" y="3048120"/>
              <a:ext cx="2718000" cy="36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6700680" y="3181320"/>
              <a:ext cx="2076480" cy="308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Constantia"/>
                  <a:ea typeface="DejaVu Sans"/>
                </a:rPr>
                <a:t>БЕЗВОЗМЕЗДНЫЕ ПОСТУПЛЕНИЯ</a:t>
              </a:r>
              <a:r>
                <a:rPr b="1" lang="ru-RU" sz="1400" spc="-1" strike="noStrike">
                  <a:solidFill>
                    <a:srgbClr val="ffffff"/>
                  </a:solidFill>
                  <a:latin typeface="Constantia"/>
                  <a:ea typeface="DejaVu Sans"/>
                </a:rPr>
                <a:t> </a:t>
              </a:r>
              <a:r>
                <a:rPr b="0" lang="ru-RU" sz="1400" spc="-1" strike="noStrike">
                  <a:solidFill>
                    <a:srgbClr val="ffffff"/>
                  </a:solidFill>
                  <a:latin typeface="Constantia"/>
                  <a:ea typeface="DejaVu Sans"/>
                </a:rPr>
                <a:t>– </a:t>
              </a:r>
              <a:r>
                <a:rPr b="0" lang="ru-RU" sz="1400" spc="-1" strike="noStrike">
                  <a:solidFill>
                    <a:srgbClr val="f1ebdf"/>
                  </a:solidFill>
                  <a:latin typeface="Constantia"/>
                  <a:ea typeface="DejaVu Sans"/>
                </a:rPr>
                <a:t>средства, которые поступают в бюджет безвозмездно (денежные средства, поступающие из вышестоящего бюджета (например, дотация из областного бюджета), а также безвозмездные перечисления от физических и юридических лиц) </a:t>
              </a:r>
              <a:endParaRPr b="0" lang="en-US" sz="1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179280" y="981000"/>
            <a:ext cx="259236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214200" y="1071720"/>
          <a:ext cx="8751600" cy="5643000"/>
        </p:xfrm>
        <a:graphic>
          <a:graphicData uri="http://schemas.openxmlformats.org/drawingml/2006/table">
            <a:tbl>
              <a:tblPr/>
              <a:tblGrid>
                <a:gridCol w="2964240"/>
                <a:gridCol w="2423160"/>
                <a:gridCol w="3364200"/>
              </a:tblGrid>
              <a:tr h="782640">
                <a:tc>
                  <a:txBody>
                    <a:bodyPr lIns="4320" rIns="4320" anchor="t">
                      <a:noAutofit/>
                    </a:bodyPr>
                    <a:p>
                      <a:pPr algn="just">
                        <a:lnSpc>
                          <a:spcPts val="14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algn="ctr">
                        <a:lnSpc>
                          <a:spcPts val="14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algn="ctr">
                        <a:lnSpc>
                          <a:spcPts val="143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я в семейном бюдже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1332000">
                <a:tc>
                  <a:txBody>
                    <a:bodyPr lIns="4320" rIns="4320" anchor="t">
                      <a:noAutofit/>
                    </a:bodyPr>
                    <a:p>
                      <a:pPr algn="just">
                        <a:lnSpc>
                          <a:spcPts val="188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тации (от лат. 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tati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-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marL="152280">
                        <a:lnSpc>
                          <a:spcPts val="188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ся без определения конкр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marL="216000">
                        <a:lnSpc>
                          <a:spcPts val="188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даете своему ребенку «карманные деньг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bdb"/>
                    </a:solidFill>
                  </a:tcPr>
                </a:tc>
              </a:tr>
              <a:tr h="1884960">
                <a:tc>
                  <a:txBody>
                    <a:bodyPr lIns="4320" rIns="4320" anchor="t">
                      <a:noAutofit/>
                    </a:bodyPr>
                    <a:p>
                      <a:pPr algn="just">
                        <a:lnSpc>
                          <a:spcPts val="188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венции (от лат. 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venir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-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marL="152280">
                        <a:lnSpc>
                          <a:spcPts val="188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ся 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152280">
                        <a:lnSpc>
                          <a:spcPts val="188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152280">
                        <a:lnSpc>
                          <a:spcPts val="188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ереданных» друг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152280">
                        <a:lnSpc>
                          <a:spcPts val="188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чно-правов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152280">
                        <a:lnSpc>
                          <a:spcPts val="188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ям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marL="216000">
                        <a:lnSpc>
                          <a:spcPts val="188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даете своему ребенку деньги и посылаете его в магазин купить продукты (по списк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9"/>
                    </a:solidFill>
                  </a:tcPr>
                </a:tc>
              </a:tr>
              <a:tr h="1643400">
                <a:tc>
                  <a:txBody>
                    <a:bodyPr lIns="4320" rIns="4320" anchor="t">
                      <a:noAutofit/>
                    </a:bodyPr>
                    <a:p>
                      <a:pPr algn="just">
                        <a:lnSpc>
                          <a:spcPts val="191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сидии (от лат. 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sidium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- поддерж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marL="152280">
                        <a:lnSpc>
                          <a:spcPts val="191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algn="just">
                        <a:lnSpc>
                          <a:spcPts val="191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«добавляете» денег для того, чтоб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ts val="191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ш ребенок купил себе новый телеф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ts val="1911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остальные он накопил са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1571760" y="11160"/>
            <a:ext cx="56689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ежбюджетные трансферты - основной вид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безвозмездных перечислений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50720" y="-79200"/>
            <a:ext cx="8382240" cy="101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142920" y="714240"/>
          <a:ext cx="8859600" cy="6140160"/>
        </p:xfrm>
        <a:graphic>
          <a:graphicData uri="http://schemas.openxmlformats.org/drawingml/2006/table">
            <a:tbl>
              <a:tblPr/>
              <a:tblGrid>
                <a:gridCol w="1523880"/>
                <a:gridCol w="3704400"/>
                <a:gridCol w="1816560"/>
                <a:gridCol w="1814760"/>
              </a:tblGrid>
              <a:tr h="73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д бюджетн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 2020 год </a:t>
                      </a: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2020  год </a:t>
                      </a: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овые и неналоговые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 579,8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 961,8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прибыль,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 635,4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164,7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3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товары (работы, услуги), реализуемые на территории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015,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887,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78,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722,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5,7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6,3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3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09,9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99,7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2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тежи при пользовании природными ресурс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,8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,8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9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оказания платных услуг (работ) и компенсации затрат госуда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54,5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84,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2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продажи материальных и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559,7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635,0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трафы, санкции, возмещение ущер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9,7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,8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неналоговые 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50920" y="1268280"/>
          <a:ext cx="8570520" cy="5473440"/>
        </p:xfrm>
        <a:graphic>
          <a:graphicData uri="http://schemas.openxmlformats.org/drawingml/2006/table">
            <a:tbl>
              <a:tblPr/>
              <a:tblGrid>
                <a:gridCol w="1487520"/>
                <a:gridCol w="4058640"/>
                <a:gridCol w="1584720"/>
                <a:gridCol w="1439640"/>
              </a:tblGrid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д бюджетн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 2020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1081080"/>
                          <a:tab algn="l" pos="2163600"/>
                          <a:tab algn="l" pos="3246480"/>
                          <a:tab algn="l" pos="4329000"/>
                          <a:tab algn="l" pos="5411880"/>
                          <a:tab algn="l" pos="6494400"/>
                          <a:tab algn="l" pos="7577280"/>
                          <a:tab algn="l" pos="8659800"/>
                          <a:tab algn="l" pos="9742320"/>
                          <a:tab algn="l" pos="108252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2020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51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1 318,7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7 183,8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2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 от других бюджетов бюджетной системы 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3 710,6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9 575,7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03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бюджетной системы РФ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350,9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350,9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 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бюджетной системы Российской Федерации (межбюджетные субсиди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8 381,5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 192,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1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 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бюджетам  бюджетной системы 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 341,6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4 396,3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31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6,4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6,4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42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 безвозмездные по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т остатков субсидий, субвенций и иных межбюджетных трансфертов, имеющих целевое назначение, прошлых л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 393,8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 393,8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382240" cy="10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5T11:14:49Z</dcterms:created>
  <dc:creator>Людмила Михайловна</dc:creator>
  <dc:description/>
  <dc:language>en-US</dc:language>
  <cp:lastModifiedBy>User</cp:lastModifiedBy>
  <cp:lastPrinted>2017-05-22T12:51:03Z</cp:lastPrinted>
  <dcterms:modified xsi:type="dcterms:W3CDTF">2021-03-15T11:26:43Z</dcterms:modified>
  <cp:revision>562</cp:revision>
  <dc:subject/>
  <dc:title>Муниципальное образование Большесолдатский муниципальный район Курской обла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