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41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98597-7F9B-427F-9101-AAD7B90C96B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14920" y="9374040"/>
            <a:ext cx="2919240" cy="49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EB6607-0A1F-4925-93F5-AA95DE7511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55720" y="-6480"/>
            <a:ext cx="5108760" cy="1444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57200" y="1643040"/>
            <a:ext cx="59295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700" spc="-1" strike="noStrike">
                <a:solidFill>
                  <a:srgbClr val="3333cc"/>
                </a:solidFill>
                <a:latin typeface="Times New Roman"/>
              </a:rPr>
              <a:t>БЮДЖЕТ</a:t>
            </a:r>
            <a:endParaRPr b="0" lang="en-US" sz="37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700" spc="-1" strike="noStrike">
                <a:solidFill>
                  <a:srgbClr val="3333cc"/>
                </a:solidFill>
                <a:latin typeface="Times New Roman"/>
              </a:rPr>
              <a:t>ДЛЯ ГРАЖДАН</a:t>
            </a:r>
            <a:endParaRPr b="0" lang="en-US" sz="37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700" spc="-1" strike="noStrike">
                <a:solidFill>
                  <a:srgbClr val="3333cc"/>
                </a:solidFill>
                <a:latin typeface="Times New Roman"/>
              </a:rPr>
              <a:t>по проекту</a:t>
            </a:r>
            <a:endParaRPr b="0" lang="en-US" sz="37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годового отчета об исполнении бюджет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униципального района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«Большесолдатский район»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урской области за 2019 год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33200" y="208080"/>
            <a:ext cx="1731960" cy="198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699240" y="122400"/>
            <a:ext cx="2243160" cy="2017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6138720" y="4492800"/>
            <a:ext cx="2872080" cy="2157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33200" y="4492800"/>
            <a:ext cx="2749680" cy="2189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2919240" y="4492800"/>
            <a:ext cx="323244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0600" y="506520"/>
            <a:ext cx="8240760" cy="974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85680" y="1571760"/>
            <a:ext cx="8928000" cy="5143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242560" cy="84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179280" y="1052640"/>
          <a:ext cx="8786520" cy="5690880"/>
        </p:xfrm>
        <a:graphic>
          <a:graphicData uri="http://schemas.openxmlformats.org/drawingml/2006/table">
            <a:tbl>
              <a:tblPr/>
              <a:tblGrid>
                <a:gridCol w="936720"/>
                <a:gridCol w="4799880"/>
                <a:gridCol w="1525680"/>
                <a:gridCol w="1524240"/>
              </a:tblGrid>
              <a:tr h="52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9 год </a:t>
                      </a:r>
                      <a:r>
                        <a:rPr b="1" lang="ru-RU" sz="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19 год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4 256,0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 551,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384,8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056,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414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68,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68,0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578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,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,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574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794,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749,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688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578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02,7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72,3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688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проведения выборов и референд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,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,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72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688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953,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725,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720" y="237960"/>
            <a:ext cx="824256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179280" y="1413000"/>
          <a:ext cx="8715240" cy="5162040"/>
        </p:xfrm>
        <a:graphic>
          <a:graphicData uri="http://schemas.openxmlformats.org/drawingml/2006/table">
            <a:tbl>
              <a:tblPr/>
              <a:tblGrid>
                <a:gridCol w="1078200"/>
                <a:gridCol w="4539600"/>
                <a:gridCol w="1657800"/>
                <a:gridCol w="143964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9 год   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19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8716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2116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гражданск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42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692,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723,4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0832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экономическ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,0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824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050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885,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515,2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42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66,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68,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5556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280,7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842,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42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280,7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842,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179280" y="1484280"/>
          <a:ext cx="8786520" cy="5054400"/>
        </p:xfrm>
        <a:graphic>
          <a:graphicData uri="http://schemas.openxmlformats.org/drawingml/2006/table">
            <a:tbl>
              <a:tblPr/>
              <a:tblGrid>
                <a:gridCol w="1087560"/>
                <a:gridCol w="4601160"/>
                <a:gridCol w="1584720"/>
                <a:gridCol w="151308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9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19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464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8 666,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 410,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460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220,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081,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464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6 149,7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 223,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446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990,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840,3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332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63,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63,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0032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143,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102,7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460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875,7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776,3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464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647,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552,4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40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28,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23,9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54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,7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,7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36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итарно-эпидемиологическое благополу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,7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,7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106189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179280" y="1197000"/>
          <a:ext cx="8715240" cy="5473440"/>
        </p:xfrm>
        <a:graphic>
          <a:graphicData uri="http://schemas.openxmlformats.org/drawingml/2006/table">
            <a:tbl>
              <a:tblPr/>
              <a:tblGrid>
                <a:gridCol w="1078200"/>
                <a:gridCol w="4207680"/>
                <a:gridCol w="1740240"/>
                <a:gridCol w="1689120"/>
              </a:tblGrid>
              <a:tr h="66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9 год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19 год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,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1436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115,8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384,5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1328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1256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105,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519,7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1472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520,5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384,7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1616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8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8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1256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418,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35,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1472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ый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418,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35,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576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63,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63,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572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63,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63,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250920" y="1387440"/>
          <a:ext cx="8714880" cy="5168520"/>
        </p:xfrm>
        <a:graphic>
          <a:graphicData uri="http://schemas.openxmlformats.org/drawingml/2006/table">
            <a:tbl>
              <a:tblPr/>
              <a:tblGrid>
                <a:gridCol w="3816720"/>
                <a:gridCol w="1468800"/>
                <a:gridCol w="1740240"/>
                <a:gridCol w="1689120"/>
              </a:tblGrid>
              <a:tr h="51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раздела по бюджет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ирование  из бюджета муниципального района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у, за счет средст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680">
                <a:tc>
                  <a:txBody>
                    <a:bodyPr lIns="106560" rIns="1065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раздела по бюджетной классифик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328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3884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3848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508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328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456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3920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440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14360" y="328680"/>
            <a:ext cx="8242200" cy="542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57120" y="1000080"/>
            <a:ext cx="46436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униципальной программ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вляется комплекс мероприятий взаимосвязанных по задачам, срокам осуществления и ресурсам в сфере социально-экономического развития Большесолдатского района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70c0"/>
                </a:solidFill>
                <a:latin typeface="Times New Roman"/>
              </a:rPr>
              <a:t>В 2019 году из бюджета муниципального района «Большесолдатский район» Курской области осуществлялось финансирование на реализацию мероприятий по 15 муниципальным программам 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33240" y="4565520"/>
            <a:ext cx="3200400" cy="22989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492880" y="920880"/>
            <a:ext cx="3369960" cy="2797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992840" y="3852720"/>
            <a:ext cx="358452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11040" y="109440"/>
            <a:ext cx="8442360" cy="665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79280" y="907920"/>
            <a:ext cx="8785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68360" y="907920"/>
          <a:ext cx="8281440" cy="5662440"/>
        </p:xfrm>
        <a:graphic>
          <a:graphicData uri="http://schemas.openxmlformats.org/drawingml/2006/table">
            <a:tbl>
              <a:tblPr/>
              <a:tblGrid>
                <a:gridCol w="6452640"/>
                <a:gridCol w="1828800"/>
              </a:tblGrid>
              <a:tr h="970920"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за 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</a:tr>
              <a:tr h="24300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5 852,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248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культуры в Большесолдатском районе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285,0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248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циальная поддержка граждан Большесолдатского района Курской обла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479,8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104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образования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4 349,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2200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Энергосбережение и повышение энергетической эффективности в Большесолдатском районе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0,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248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Охрана окружающей среды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386,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5304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Обеспечение доступным и комфортным жильем и коммунальными услугами граждан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61,8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81360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овышение эффективности работы с молодежью, организация отдыха и оздоровления детей, молодежи, развитие физической культуры и спорта в Большесолдатском  районе  Курской област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99,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140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муниципальной службы 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50920" y="1341360"/>
          <a:ext cx="8570520" cy="4714560"/>
        </p:xfrm>
        <a:graphic>
          <a:graphicData uri="http://schemas.openxmlformats.org/drawingml/2006/table">
            <a:tbl>
              <a:tblPr/>
              <a:tblGrid>
                <a:gridCol w="6654240"/>
                <a:gridCol w="1916280"/>
              </a:tblGrid>
              <a:tr h="394200"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за 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</a:tr>
              <a:tr h="55944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хранение и развитие архивного дела Большесолдатского района Курской област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,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0884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Развитие транспортной системы, обеспечение перевозки пассажиров и безопасности дорожного движения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867,2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0364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рофилактика правонарушений в Большесолдатском районе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,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0076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овышение эффективности управления финансами Большесолдатского района Курской област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636,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860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Развитие малого и среднего предпринимательства Большесолдатского района Курской области 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5412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действие занятости населения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,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81972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Социальное развитие села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456,6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46836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Расходы бюджета на реализацию муниципальных программ муниципального района «Большесолдатского район» Курской област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0720" y="8568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17600" y="1577880"/>
            <a:ext cx="82296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14360" y="122400"/>
            <a:ext cx="5700600" cy="2743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5840" y="2643120"/>
            <a:ext cx="87152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4b3e21"/>
                </a:solidFill>
                <a:latin typeface="Times New Roman"/>
              </a:rPr>
              <a:t>В 2019 году в районе в отрасли образования функционировало 24 учреждения, в отрасли культуры функционировало 3 учреждения, 1 учреждение по обслуживанию органов местного самоуправления,  6 учреждений  органов местного самоуправления, 7 сельских поселений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992920" y="133200"/>
            <a:ext cx="2943000" cy="2586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81160" y="3992400"/>
            <a:ext cx="4224240" cy="2732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780080" y="3992400"/>
            <a:ext cx="4082760" cy="27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53880" y="109440"/>
            <a:ext cx="8429760" cy="176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395280" y="1989000"/>
          <a:ext cx="8426160" cy="4625640"/>
        </p:xfrm>
        <a:graphic>
          <a:graphicData uri="http://schemas.openxmlformats.org/drawingml/2006/table">
            <a:tbl>
              <a:tblPr/>
              <a:tblGrid>
                <a:gridCol w="7218360"/>
                <a:gridCol w="1207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дорожного фонда по направления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a8a14"/>
                        </a:gs>
                        <a:gs pos="100000">
                          <a:srgbClr val="4f400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a8a14"/>
                        </a:gs>
                        <a:gs pos="100000">
                          <a:srgbClr val="4f400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ирование  сети автомобильных дорог общего пользования и искусственных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0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сети автомобильных дорог общего пользования  и искусственных 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7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99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льный ремонт и ремонт сети автомобильных дорог общего пользования и искусственных сооружений на н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315,4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9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27,3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держка дорожного хозя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льный ремонт и ремонт сети автомобильных дорог общего пользования и искусственных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71,6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50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 сети автомобильных дорог общего пользования и искусственных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6,3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46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087,9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</a:tbl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115920" y="225360"/>
            <a:ext cx="8831160" cy="766800"/>
            <a:chOff x="115920" y="225360"/>
            <a:chExt cx="8831160" cy="766800"/>
          </a:xfrm>
        </p:grpSpPr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115920" y="225360"/>
              <a:ext cx="883116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10960" y="291960"/>
              <a:ext cx="8649000" cy="58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2400" spc="-1" strike="noStrike">
                  <a:solidFill>
                    <a:srgbClr val="3333cc"/>
                  </a:solidFill>
                  <a:latin typeface="Times New Roman"/>
                  <a:ea typeface="DejaVu Sans"/>
                </a:rPr>
                <a:t>Дорожный фонд Большесолдатского района за 2019 год</a:t>
              </a:r>
              <a:endParaRPr b="0" lang="en-US" sz="2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</p:spTree>
  </p:cSld>
  <p:transition spd="med" advTm="5000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nodeType="clickEffect" fill="hold">
                      <p:stCondLst>
                        <p:cond delay="0"/>
                      </p:stCondLst>
                      <p:childTnLst>
                        <p:par>
                          <p:cTn id="1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419720" y="115920"/>
            <a:ext cx="4610160" cy="34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84360" y="260280"/>
            <a:ext cx="806436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д муниципальным долгом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нимается совокупность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долговых обязательств муниципального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Муниципальный долг полностью и без условий обеспечивается всем муниципальным имуществом, составляющим муниципальную казну. 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  <a:ea typeface="DejaVu Sans"/>
              </a:rPr>
              <a:t>Расходы на обслуживание муниципального долга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  <a:ea typeface="DejaVu Sans"/>
              </a:rPr>
              <a:t>за 2019 год составил 0 тыс. рублей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 состоянию на 01.01.2020 год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(как и на 01.01.2019 года) муниципальный район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«Большесолдатский район»  Курской области задолженности по бюджетным кредитам, предоставленным из областного бюджета,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не имеет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В 2019 году из областного бюджета бюджету муниципального района бюджетные кредиты не выдавали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767560" y="4121280"/>
            <a:ext cx="3290760" cy="2468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50720" y="249120"/>
            <a:ext cx="8242560" cy="1744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2349360"/>
            <a:ext cx="8002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307850, Курская обл.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с. Большое Солдатское,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ул. Кооперативная, 21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Управление финансов Администрации Большесолдатского района Курской област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факс:(47136) 2-13-94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ел.: (47136)  2-14-43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E-mail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bsupr@mail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рафик работы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: понедельник-пятница с 8-00 до 16-00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Times New Roman"/>
              </a:rPr>
              <a:t>Суббота, воскресенье - выходные дн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5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457200" y="1712880"/>
          <a:ext cx="8230680" cy="4308120"/>
        </p:xfrm>
        <a:graphic>
          <a:graphicData uri="http://schemas.openxmlformats.org/drawingml/2006/table">
            <a:tbl>
              <a:tblPr/>
              <a:tblGrid>
                <a:gridCol w="2675160"/>
                <a:gridCol w="5555520"/>
              </a:tblGrid>
              <a:tr h="1195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да проводятся публичные слуша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1280" indent="-341280" algn="just">
                        <a:lnSpc>
                          <a:spcPct val="83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рассмотрении проекта закона о бюджете на очередной финансовый год и на плановый перио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341280" indent="-341280" algn="just">
                        <a:lnSpc>
                          <a:spcPct val="96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рассмотрении проекта закона об исполнении бюджета за отчетн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07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информируются граждане о проведении публичных слушани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вещение о проведении публичных слуш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мещается на официальном сайте Администрации Большесолдатского района Кур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2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 публичных слуш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формляется итоговый документ публичных слушаний с учетом высказанных экспертами рекомендаций и предложений. Итоговый документ размещается на официальном сайте Администрации Большесолдатского района Курской обла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3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 можно получить дополнительную информацию о публичных слушаниях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ительное Собрание Большесолдатского района Курской области по адресу: 307850,  Большесолдатский район, с. Большое Солдатское, ул. Мира,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57120" y="4214880"/>
            <a:ext cx="84297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БЮДЖЕТ ДЛЯ ГРАЖДАН –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66640" y="2560680"/>
            <a:ext cx="4511880" cy="1657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572080" y="214200"/>
            <a:ext cx="3357720" cy="2419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2920" y="-720"/>
            <a:ext cx="5214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4 года все финансовые органы страны составляют на регулярной основе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й аналитический докумен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содержит основные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закона (решения) о бюджете и отчета о его исполнении в доступной и понятной форме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держите в рука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познакомит вас с основными положениями бюджета муниципального района «Большесолдатский район» Курской области за 2019 год 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3680" y="152280"/>
            <a:ext cx="8242200" cy="1122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8360" y="1052640"/>
            <a:ext cx="8207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 algn="just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юджет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доходов и расходов для  обеспечения задач и   функций государ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«Программный бюджет»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юджет, сформированный в соответствии с утвержденными муниципальными программам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Дефицит бюджета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ходная часть бюджета превышает доходную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рофицит бюджета -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ительный остаток бюдж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оходная часть бюджета превышает расходную)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Бюджет для граждан об исполнении составляется на один год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38120" y="79200"/>
            <a:ext cx="8388360" cy="1463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42960" y="1773360"/>
          <a:ext cx="8002080" cy="4758840"/>
        </p:xfrm>
        <a:graphic>
          <a:graphicData uri="http://schemas.openxmlformats.org/drawingml/2006/table">
            <a:tbl>
              <a:tblPr/>
              <a:tblGrid>
                <a:gridCol w="4000680"/>
                <a:gridCol w="4001400"/>
              </a:tblGrid>
              <a:tr h="993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21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0 646,06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55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6 551,89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9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 094,17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852640" y="2992320"/>
            <a:ext cx="3127320" cy="28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115920" y="66600"/>
            <a:ext cx="8831160" cy="852480"/>
            <a:chOff x="115920" y="66600"/>
            <a:chExt cx="8831160" cy="85248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115920" y="66600"/>
              <a:ext cx="8831160" cy="8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" name=""/>
            <p:cNvGrpSpPr/>
            <p:nvPr/>
          </p:nvGrpSpPr>
          <p:grpSpPr>
            <a:xfrm>
              <a:off x="209520" y="171360"/>
              <a:ext cx="8656560" cy="666720"/>
              <a:chOff x="209520" y="171360"/>
              <a:chExt cx="8656560" cy="666720"/>
            </a:xfrm>
          </p:grpSpPr>
          <p:pic>
            <p:nvPicPr>
              <p:cNvPr id="1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520" y="171360"/>
                <a:ext cx="8656560" cy="6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254160" y="184320"/>
                <a:ext cx="8259480" cy="40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onstantia"/>
                    <a:ea typeface="DejaVu Sans"/>
                  </a:rPr>
                  <a:t>Доходы бюджета</a:t>
                </a:r>
                <a:endParaRPr b="0" lang="en-US" sz="24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2627280" y="981000"/>
            <a:ext cx="5399280" cy="82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Constantia"/>
                <a:ea typeface="DejaVu Sans"/>
              </a:rPr>
              <a:t>Поступающие в бюджет денежные средства являются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onstantia"/>
                <a:ea typeface="DejaVu Sans"/>
              </a:rPr>
              <a:t>ДОХОДАМИ БЮДЖЕТА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 rot="2340000">
            <a:off x="3131640" y="1773360"/>
            <a:ext cx="223920" cy="1025280"/>
          </a:xfrm>
          <a:custGeom>
            <a:avLst/>
            <a:gdLst/>
            <a:ahLst/>
            <a:rect l="l" t="t" r="r" b="b"/>
            <a:pathLst>
              <a:path w="623" h="2850">
                <a:moveTo>
                  <a:pt x="155" y="0"/>
                </a:moveTo>
                <a:lnTo>
                  <a:pt x="155" y="2454"/>
                </a:lnTo>
                <a:lnTo>
                  <a:pt x="0" y="2454"/>
                </a:lnTo>
                <a:lnTo>
                  <a:pt x="311" y="2850"/>
                </a:lnTo>
                <a:lnTo>
                  <a:pt x="623" y="2454"/>
                </a:lnTo>
                <a:lnTo>
                  <a:pt x="467" y="2454"/>
                </a:lnTo>
                <a:lnTo>
                  <a:pt x="468" y="0"/>
                </a:lnTo>
                <a:lnTo>
                  <a:pt x="155" y="0"/>
                </a:lnTo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"/>
          <p:cNvSpPr/>
          <p:nvPr/>
        </p:nvSpPr>
        <p:spPr>
          <a:xfrm rot="19260000">
            <a:off x="7234200" y="1774440"/>
            <a:ext cx="223920" cy="1006560"/>
          </a:xfrm>
          <a:custGeom>
            <a:avLst/>
            <a:gdLst/>
            <a:ahLst/>
            <a:rect l="l" t="t" r="r" b="b"/>
            <a:pathLst>
              <a:path w="622" h="2796">
                <a:moveTo>
                  <a:pt x="153" y="0"/>
                </a:moveTo>
                <a:lnTo>
                  <a:pt x="155" y="2484"/>
                </a:lnTo>
                <a:lnTo>
                  <a:pt x="0" y="2484"/>
                </a:lnTo>
                <a:lnTo>
                  <a:pt x="311" y="2796"/>
                </a:lnTo>
                <a:lnTo>
                  <a:pt x="622" y="2484"/>
                </a:lnTo>
                <a:lnTo>
                  <a:pt x="466" y="2484"/>
                </a:lnTo>
                <a:lnTo>
                  <a:pt x="465" y="0"/>
                </a:lnTo>
                <a:lnTo>
                  <a:pt x="153" y="0"/>
                </a:lnTo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1844640"/>
            <a:ext cx="223920" cy="936720"/>
          </a:xfrm>
          <a:custGeom>
            <a:avLst/>
            <a:gdLst/>
            <a:ahLst/>
            <a:rect l="l" t="t" r="r" b="b"/>
            <a:pathLst>
              <a:path w="623" h="2603">
                <a:moveTo>
                  <a:pt x="155" y="0"/>
                </a:moveTo>
                <a:lnTo>
                  <a:pt x="155" y="2154"/>
                </a:lnTo>
                <a:lnTo>
                  <a:pt x="0" y="2154"/>
                </a:lnTo>
                <a:lnTo>
                  <a:pt x="311" y="2603"/>
                </a:lnTo>
                <a:lnTo>
                  <a:pt x="623" y="2154"/>
                </a:lnTo>
                <a:lnTo>
                  <a:pt x="467" y="2154"/>
                </a:lnTo>
                <a:lnTo>
                  <a:pt x="467" y="0"/>
                </a:lnTo>
                <a:lnTo>
                  <a:pt x="155" y="0"/>
                </a:lnTo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139760" y="2981160"/>
            <a:ext cx="2644920" cy="3765600"/>
            <a:chOff x="1139760" y="2981160"/>
            <a:chExt cx="2644920" cy="3765600"/>
          </a:xfrm>
        </p:grpSpPr>
        <p:pic>
          <p:nvPicPr>
            <p:cNvPr id="153" name="" descr=""/>
            <p:cNvPicPr/>
            <p:nvPr/>
          </p:nvPicPr>
          <p:blipFill>
            <a:blip r:embed="rId4"/>
            <a:stretch/>
          </p:blipFill>
          <p:spPr>
            <a:xfrm>
              <a:off x="1139760" y="2981160"/>
              <a:ext cx="2644920" cy="37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297080" y="3106800"/>
              <a:ext cx="2011320" cy="316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НАЛОГИ</a:t>
              </a:r>
              <a:r>
                <a:rPr b="0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– часть доходов граждан и организаций, которые они обязаны заплатить государству (например, налог на доходы физических лиц, налог на прибыль, налог на имущество физических лиц, земельный налог, транспортный налог и др.)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876840" y="2981160"/>
            <a:ext cx="2717640" cy="3765600"/>
            <a:chOff x="3876840" y="2981160"/>
            <a:chExt cx="2717640" cy="3765600"/>
          </a:xfrm>
        </p:grpSpPr>
        <p:pic>
          <p:nvPicPr>
            <p:cNvPr id="156" name="" descr=""/>
            <p:cNvPicPr/>
            <p:nvPr/>
          </p:nvPicPr>
          <p:blipFill>
            <a:blip r:embed="rId5"/>
            <a:stretch/>
          </p:blipFill>
          <p:spPr>
            <a:xfrm>
              <a:off x="3876840" y="2981160"/>
              <a:ext cx="2717640" cy="37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037040" y="3110040"/>
              <a:ext cx="2076480" cy="315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НЕНАЛОГОВЫЕ ДОХОДЫ</a:t>
              </a:r>
              <a:r>
                <a:rPr b="1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– платежи в виде штрафов, санкций за нарушение законодательства, платежи за пользование имуществом государства, средства самообложения граждан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540480" y="3048120"/>
            <a:ext cx="2718000" cy="3698640"/>
            <a:chOff x="6540480" y="3048120"/>
            <a:chExt cx="2718000" cy="3698640"/>
          </a:xfrm>
        </p:grpSpPr>
        <p:pic>
          <p:nvPicPr>
            <p:cNvPr id="159" name="" descr=""/>
            <p:cNvPicPr/>
            <p:nvPr/>
          </p:nvPicPr>
          <p:blipFill>
            <a:blip r:embed="rId6"/>
            <a:stretch/>
          </p:blipFill>
          <p:spPr>
            <a:xfrm>
              <a:off x="6540480" y="3048120"/>
              <a:ext cx="2718000" cy="36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700680" y="3181320"/>
              <a:ext cx="2076480" cy="308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БЕЗВОЗМЕЗДНЫЕ ПОСТУПЛЕНИЯ</a:t>
              </a:r>
              <a:r>
                <a:rPr b="1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–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средства, которые поступают в бюджет безвозмездно (денежные средства, поступающие из вышестоящего бюджета (например, дотация из областного бюджета), а также безвозмездные перечисления от физических и юридических лиц) 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179280" y="981000"/>
            <a:ext cx="259236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14200" y="1071720"/>
          <a:ext cx="8751600" cy="5643000"/>
        </p:xfrm>
        <a:graphic>
          <a:graphicData uri="http://schemas.openxmlformats.org/drawingml/2006/table">
            <a:tbl>
              <a:tblPr/>
              <a:tblGrid>
                <a:gridCol w="2964240"/>
                <a:gridCol w="2423160"/>
                <a:gridCol w="3364200"/>
              </a:tblGrid>
              <a:tr h="78264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4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ctr">
                        <a:lnSpc>
                          <a:spcPts val="14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ctr">
                        <a:lnSpc>
                          <a:spcPts val="14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я в семейном бюдж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33200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tati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без определения конкр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216000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даете своему ребенку «карманные деньг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</a:tr>
              <a:tr h="188496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venir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реданных» друг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-правов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ям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216000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даете своему ребенку деньги и посылаете его в магазин купить продукты (по списк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</a:tr>
              <a:tr h="164340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9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idium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оддерж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9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9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«добавляете» денег для того, чт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ts val="19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ебенок купил себе новый теле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ts val="19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остальные он накопил са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571760" y="11160"/>
            <a:ext cx="56689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жбюджетные трансферты - основной вид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безвозмездных перечислений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0720" y="-79200"/>
            <a:ext cx="8382240" cy="101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142920" y="714240"/>
          <a:ext cx="8859600" cy="6140160"/>
        </p:xfrm>
        <a:graphic>
          <a:graphicData uri="http://schemas.openxmlformats.org/drawingml/2006/table">
            <a:tbl>
              <a:tblPr/>
              <a:tblGrid>
                <a:gridCol w="1523880"/>
                <a:gridCol w="3704400"/>
                <a:gridCol w="1816560"/>
                <a:gridCol w="1814760"/>
              </a:tblGrid>
              <a:tr h="73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бюджет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19 год 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19  год 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 209,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 849,0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прибыль,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87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 994,5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товары (работы, услуги), реализуемые на территории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515,3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86,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35,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68,5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6,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,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3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90,6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10,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ежи при пользовании природными ресурс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4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9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оказания платных услуг (работ) и компенсации затрат госуда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43,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88,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990,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288,5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,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неналоговые 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50920" y="1268280"/>
          <a:ext cx="8570520" cy="5473440"/>
        </p:xfrm>
        <a:graphic>
          <a:graphicData uri="http://schemas.openxmlformats.org/drawingml/2006/table">
            <a:tbl>
              <a:tblPr/>
              <a:tblGrid>
                <a:gridCol w="1487520"/>
                <a:gridCol w="4058640"/>
                <a:gridCol w="1584720"/>
                <a:gridCol w="1439640"/>
              </a:tblGrid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бюджет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1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 030,6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 796,9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 от других бюджетов бюджетной системы 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 862,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 625,8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0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бюджетной системы Р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962,0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962,0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бюджетной системы Российской Федерации (межбюджетные субсид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 327,9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091,4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бюджетам  бюджетной системы 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4 294,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4 294,4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3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8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,8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4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 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4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6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245,6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245,6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382240" cy="10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1:14:49Z</dcterms:created>
  <dc:creator>Людмила Михайловна</dc:creator>
  <dc:description/>
  <dc:language>en-US</dc:language>
  <cp:lastModifiedBy>User</cp:lastModifiedBy>
  <cp:lastPrinted>2017-05-22T12:51:03Z</cp:lastPrinted>
  <dcterms:modified xsi:type="dcterms:W3CDTF">2020-04-15T11:59:11Z</dcterms:modified>
  <cp:revision>524</cp:revision>
  <dc:subject/>
  <dc:title>Муниципальное образование Большесолдатский муниципальный район Курской обла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