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941-E408-43EB-98AB-B7F5FACC7C57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30E4-A6AA-46A6-9388-454B012D88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D66E-0C4D-49D5-86FF-9BC23C6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73D8E-6C61-4632-8F94-03A97EC2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F0B5-A929-406E-A8CD-7718EDB7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D086-F1CE-45D5-9EAA-21CB609C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FE44D-6597-499C-87F4-9D94649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60578-E8F2-426E-B3D7-C38F34E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E9137-B96B-4C1D-A8BF-A9F1B203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CB33C-F0FE-41D4-9A53-9EE63CDE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5B2FF-58C6-42CA-9581-859CF1A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EACAA-DA7E-436C-9E4E-D21B0D47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B211-C09F-482F-8460-38A1DA70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3EFB-C436-4459-90AF-B20BEB2C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00F27-7AC8-4222-8E5C-1C0F9CA5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F223-8132-48D0-A827-805A698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E0686-7D16-425F-B3A4-DCF72AA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A923A-41AA-4235-8788-B9B8A14D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5716-2DEA-4010-B0FE-5477D8AD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4376E7-C370-4268-A3B7-4AB39FBD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0DE77-E1F1-4CC3-A7F3-8C8A696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54D43-10EB-48B3-B586-2041FAD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654CC-3B79-4A4E-B053-8CDC55B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7327A-F1DA-4563-BF2A-837E1F5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13B1-8F33-4BB8-94D8-E0C7495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3FB65-F667-4D5C-8DBA-92117BB7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57941-8C31-431A-BCA4-632F9AD6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A6165-53A0-416D-B411-030112DD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370DE-D8C2-4BEA-8CA6-7F26E73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23E9E-3ED5-48FD-9075-6BBAE3D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47727A-63CF-45FE-B30D-9FDF6D7F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D4382-5507-49F0-B11A-9EBB193B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39BB-4077-423D-A23D-F78DB4E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D178-F1C5-4FC6-A4CB-AB83F613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B3BF-AD75-4C33-B0B4-E08A8822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47FC7-A862-493E-AA63-5DD8663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5DC1-6F20-4E1D-A066-B1D9969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DFFB-1CCF-42A3-B5EB-EF840DC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8B4D-D68B-474A-B3EE-37021B4A2A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356-26DD-443F-994B-B5C98719C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916C-020E-47D2-B210-CDE5A046A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55720" y="-6480"/>
            <a:ext cx="5108760" cy="1444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57200" y="1643040"/>
            <a:ext cx="59295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по проекту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годового отчета 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униципального района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«Большесолдатский район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рской области за 2018 год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38720" y="4492800"/>
            <a:ext cx="2872080" cy="2157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33200" y="4492800"/>
            <a:ext cx="274968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919240" y="4492800"/>
            <a:ext cx="32324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179280" y="1268280"/>
          <a:ext cx="8786520" cy="551304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258,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755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05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99,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394,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8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0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0,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1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0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8,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0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57,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34,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1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35,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31,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92,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55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79280" y="1413000"/>
          <a:ext cx="8715240" cy="508896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778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8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9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240,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110,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0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74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433,6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763,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9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80,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20,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4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6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0,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6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6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0,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79280" y="1484280"/>
          <a:ext cx="8786520" cy="505440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 469,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 918,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28,9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415,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 690,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 450,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4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00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242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3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5,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1,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0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3,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18,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16,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3,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60,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47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56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6,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54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79280" y="1197000"/>
          <a:ext cx="8715240" cy="482544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20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020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995,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39,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17,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09,7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 917,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1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43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95,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95,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44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02,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02,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17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250920" y="1387440"/>
          <a:ext cx="8714880" cy="531144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3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3820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1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5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4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5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83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7120" y="1000080"/>
            <a:ext cx="46436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В 2018 году из бюджета муниципального района «Большесолдатский район» Курской области осуществлялось финансирование на реализацию мероприятий по 16 муниципальным программам 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33240" y="456552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492880" y="920880"/>
            <a:ext cx="3369960" cy="2797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992840" y="3852720"/>
            <a:ext cx="35845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907920"/>
          <a:ext cx="8281440" cy="5662440"/>
        </p:xfrm>
        <a:graphic>
          <a:graphicData uri="http://schemas.openxmlformats.org/drawingml/2006/table">
            <a:tbl>
              <a:tblPr/>
              <a:tblGrid>
                <a:gridCol w="6452640"/>
                <a:gridCol w="1828800"/>
              </a:tblGrid>
              <a:tr h="928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 573,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413,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40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60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559,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704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в Большесолдатском районе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,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63,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591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5,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1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5,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50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на 2017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50920" y="1341360"/>
          <a:ext cx="8570520" cy="540360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7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,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4196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на 2017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063,7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52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9,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879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 в Большесолдатском районе Курской области на 2016-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24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малого и среднего предпринимательства Большесолдатского района Курской области на 2018 год и на плановый период 2019-2020 год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829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на 2018 год и на плановый период 2019-2020 годов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416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на 2014-2017 годы и на период до 2020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5840" y="2643120"/>
            <a:ext cx="871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3e21"/>
                </a:solidFill>
                <a:latin typeface="Times New Roman"/>
              </a:rPr>
              <a:t>В 2018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92920" y="133200"/>
            <a:ext cx="2943000" cy="2586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81160" y="3992400"/>
            <a:ext cx="4224240" cy="273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780080" y="3992400"/>
            <a:ext cx="4082760" cy="27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21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395280" y="2276640"/>
          <a:ext cx="8426160" cy="4052520"/>
        </p:xfrm>
        <a:graphic>
          <a:graphicData uri="http://schemas.openxmlformats.org/drawingml/2006/table">
            <a:tbl>
              <a:tblPr/>
              <a:tblGrid>
                <a:gridCol w="7218360"/>
                <a:gridCol w="120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6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19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сети автомобильных дорог общего пользования  и искусственных 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 ,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9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, строительство, реконструкцию, дорог общего пользования с твердым покрытием до сельских населенных пунктов, не имеющих круглогодичной связи с сетью автомобильных дорог общего поль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003,4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279,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,6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0960" y="291960"/>
              <a:ext cx="8649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18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4360" y="260280"/>
            <a:ext cx="806436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18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19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18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18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3080" indent="-34308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2920" y="9720"/>
            <a:ext cx="521496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8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2960" y="1773360"/>
          <a:ext cx="8002080" cy="455580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7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6 804,8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 755,7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 049,0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254160" y="184320"/>
                <a:ext cx="82594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627280" y="981000"/>
            <a:ext cx="5399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54" h="2848">
                <a:moveTo>
                  <a:pt x="0" y="1202"/>
                </a:moveTo>
                <a:lnTo>
                  <a:pt x="638" y="1202"/>
                </a:lnTo>
                <a:lnTo>
                  <a:pt x="638" y="0"/>
                </a:lnTo>
                <a:lnTo>
                  <a:pt x="-16" y="0"/>
                </a:lnTo>
                <a:lnTo>
                  <a:pt x="-16" y="1202"/>
                </a:lnTo>
                <a:lnTo>
                  <a:pt x="622" y="1202"/>
                </a:lnTo>
                <a:lnTo>
                  <a:pt x="311" y="2848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53" h="2795">
                <a:moveTo>
                  <a:pt x="0" y="951"/>
                </a:moveTo>
                <a:lnTo>
                  <a:pt x="637" y="951"/>
                </a:lnTo>
                <a:lnTo>
                  <a:pt x="637" y="0"/>
                </a:lnTo>
                <a:lnTo>
                  <a:pt x="-16" y="0"/>
                </a:lnTo>
                <a:lnTo>
                  <a:pt x="-16" y="951"/>
                </a:lnTo>
                <a:lnTo>
                  <a:pt x="621" y="951"/>
                </a:lnTo>
                <a:lnTo>
                  <a:pt x="311" y="2795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54" h="2602">
                <a:moveTo>
                  <a:pt x="0" y="1368"/>
                </a:moveTo>
                <a:lnTo>
                  <a:pt x="638" y="1368"/>
                </a:lnTo>
                <a:lnTo>
                  <a:pt x="638" y="0"/>
                </a:lnTo>
                <a:lnTo>
                  <a:pt x="-16" y="0"/>
                </a:lnTo>
                <a:lnTo>
                  <a:pt x="-16" y="1368"/>
                </a:lnTo>
                <a:lnTo>
                  <a:pt x="622" y="1368"/>
                </a:lnTo>
                <a:lnTo>
                  <a:pt x="311" y="2602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297080" y="3106800"/>
              <a:ext cx="2011320" cy="31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037040" y="3110040"/>
              <a:ext cx="20764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700680" y="3181320"/>
              <a:ext cx="2076480" cy="30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571760" y="0"/>
            <a:ext cx="56689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42920" y="714240"/>
          <a:ext cx="8859600" cy="613080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8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 716,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 533,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777,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781,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17,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73,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4,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40,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5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,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3,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8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76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57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43,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,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,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50920" y="1268280"/>
          <a:ext cx="8570520" cy="5473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2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 331,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 271,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 837,3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 779,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228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228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537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479,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405,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405,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5,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5,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6,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6,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19-04-25T05:16:03Z</dcterms:modified>
  <cp:revision>495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