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25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41.jpeg" ContentType="image/jpe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44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10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 algn="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1B67-9235-45F4-B581-725D68CEEC5D}" type="slidenum"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000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2AFF-34CA-4B4B-A04D-3A0F8B66156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1AED7-0D8D-435A-82B7-0E254B62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6D504-2C27-4EAD-9E6E-7C7C11E5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449FE2-DFDD-4208-B7E5-54AD64087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7861-DCFB-471E-8BB4-7C7CD056C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905E8B-F949-4134-80E1-5562D016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41E10B-249C-43A1-A39C-FE9BA6EC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739BF-37AE-4A54-9354-EF44F9F4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8D542C-C58B-4F32-881A-1165BDCC8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5BA7B-1650-466A-95B7-AAF746CE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19EEA-36C7-43C1-908D-0822FF15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5CBA3C-A3FF-4A9C-ABF6-6051F478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7D2EB-4E7C-4DA3-870D-F1B79117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D9AFD-0829-46DA-AB74-48B7FBBF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8A713E-30F8-4C23-9506-64BF334F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85E94-DD9F-4E7B-A344-14C5361D6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7D7211-880A-428D-8596-8FC81062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37102F-5506-4211-92F9-324BB59F9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F220D-C255-4D13-A882-89212E63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D3A3F-A854-48FB-B06B-8F68C05B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4C9294-FDC2-492B-BA33-BA38163E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C524A-1696-47BA-A4D2-63BF43AE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68FE41-5F32-49C8-AB97-BA76C687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EC37E-D3A5-4F35-BB31-775D5E82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874B1C-4C9E-400D-947F-93BA60882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B615D-AD8F-4BA6-A7A6-0234F8C9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D5146-5B4A-4F33-A7AE-9331C7F3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AE375-B1E4-458C-BAEB-072F257A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09A07-FD8F-4C14-BD5C-9CF95FCC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22925F-179B-4029-887B-A46A5AF9C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93CE4-A2CC-4E7B-ABC6-CD9CA33C7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6794-7C6A-49C5-9BF7-914D94BC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F65C-D00F-41FF-8616-62C3B796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192BC-7D68-4C5D-A445-59315592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BED60-7F40-4737-850A-AD56C7850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04F72-B696-4762-899B-7BFC3BFD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/>
          </a:bodyPr>
          <a:p>
            <a:pPr marL="3430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90D39-A135-46B1-8A87-EB0488C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2DA1-8ABC-46F5-82F9-FE54E65A0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4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D1F5-C44D-4E64-AA4F-8CC49AE5A8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6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7"/>
          </p:nvPr>
        </p:nvSpPr>
        <p:spPr>
          <a:xfrm>
            <a:off x="3123720" y="6416640"/>
            <a:ext cx="289404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38520" bIns="38520" anchor="b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3DD7-4DC1-4BAB-9258-4BA477663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9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77400" rIns="77400" tIns="38520" bIns="38520" anchor="b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DejaVu Serif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DejaVu Serif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8280" bIns="0" anchor="t">
            <a:normAutofit fontScale="89000"/>
          </a:bodyPr>
          <a:p>
            <a:pPr marL="305280" indent="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05280" indent="-305280">
              <a:lnSpc>
                <a:spcPct val="98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55720" y="-6480"/>
            <a:ext cx="5108760" cy="14446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57200" y="1643040"/>
            <a:ext cx="592956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9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БЮДЖЕТ</a:t>
            </a: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9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ДЛЯ ГРАЖДАН</a:t>
            </a: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93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3333cc"/>
                </a:solidFill>
                <a:latin typeface="Times New Roman"/>
              </a:rPr>
              <a:t>по проекту</a:t>
            </a:r>
            <a:endParaRPr b="0" lang="en-US" sz="37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годового отчета об исполнении бюджета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униципального района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«Большесолдатский район»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урской области за 2018 год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33200" y="208080"/>
            <a:ext cx="1731960" cy="1981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6699240" y="122400"/>
            <a:ext cx="2243160" cy="20174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6138720" y="4492800"/>
            <a:ext cx="2872080" cy="21571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133200" y="4492800"/>
            <a:ext cx="2749680" cy="21891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2919240" y="4492800"/>
            <a:ext cx="3232440" cy="221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0600" y="506520"/>
            <a:ext cx="8240760" cy="974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85680" y="1571760"/>
            <a:ext cx="8928000" cy="51433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0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50720" y="231840"/>
            <a:ext cx="8242560" cy="968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179280" y="1268280"/>
          <a:ext cx="8786520" cy="5513040"/>
        </p:xfrm>
        <a:graphic>
          <a:graphicData uri="http://schemas.openxmlformats.org/drawingml/2006/table">
            <a:tbl>
              <a:tblPr/>
              <a:tblGrid>
                <a:gridCol w="936720"/>
                <a:gridCol w="4799880"/>
                <a:gridCol w="1525680"/>
                <a:gridCol w="152424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8 год </a:t>
                      </a:r>
                      <a:r>
                        <a:rPr b="1" lang="ru-RU" sz="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8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7 258,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0 755,7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0528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699,7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394,0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382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0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40,3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513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законодательных (представительных) органов государственной власти и представительных органов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80,4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78,5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506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157,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134,0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02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дебная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,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513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35,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31,8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11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ервные фон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40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 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692,7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455,4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450720" y="237960"/>
            <a:ext cx="8242560" cy="1189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79280" y="1413000"/>
          <a:ext cx="8715240" cy="5088960"/>
        </p:xfrm>
        <a:graphic>
          <a:graphicData uri="http://schemas.openxmlformats.org/drawingml/2006/table">
            <a:tbl>
              <a:tblPr/>
              <a:tblGrid>
                <a:gridCol w="1078200"/>
                <a:gridCol w="4539600"/>
                <a:gridCol w="1657800"/>
                <a:gridCol w="1439640"/>
              </a:tblGrid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8 год   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8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778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2,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,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8082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3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щита населения и территории от чрезвычайных ситуаций природного и техногенного характера, гражданская об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2,4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,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95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 240,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 110,4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00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экономически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,3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,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744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985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рожное хозяйство (дорожные фонды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 433,6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763,7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95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4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национальной эконом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80,5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720,5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44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68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10,5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463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5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68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10,5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50720" y="225360"/>
            <a:ext cx="8242560" cy="112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79280" y="1484280"/>
          <a:ext cx="8786520" cy="5054400"/>
        </p:xfrm>
        <a:graphic>
          <a:graphicData uri="http://schemas.openxmlformats.org/drawingml/2006/table">
            <a:tbl>
              <a:tblPr/>
              <a:tblGrid>
                <a:gridCol w="1087560"/>
                <a:gridCol w="4601160"/>
                <a:gridCol w="1584720"/>
                <a:gridCol w="151308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8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 за 2018 год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446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 469,3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 918,1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60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школьно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628,9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415,5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46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е 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 690,3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3 450,1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46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олнительное образование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300,8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242,7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33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лодеж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95,3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91,4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003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7 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обра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53,7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718,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460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916,3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883,4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464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60,0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 047,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400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8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культуры, кинемат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56,2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836,2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54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дравоохра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4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4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364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9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анитарно-эпидемиологическое благополуч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4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,4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10618920" cy="10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6" name=""/>
          <p:cNvGraphicFramePr/>
          <p:nvPr/>
        </p:nvGraphicFramePr>
        <p:xfrm>
          <a:off x="179280" y="1197000"/>
          <a:ext cx="8715240" cy="4825440"/>
        </p:xfrm>
        <a:graphic>
          <a:graphicData uri="http://schemas.openxmlformats.org/drawingml/2006/table">
            <a:tbl>
              <a:tblPr/>
              <a:tblGrid>
                <a:gridCol w="1078200"/>
                <a:gridCol w="4207680"/>
                <a:gridCol w="1740240"/>
                <a:gridCol w="1689120"/>
              </a:tblGrid>
              <a:tr h="513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аздел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одразде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на 2018 год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8 год   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,руб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207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 020,3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 995,5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нсион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1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ое обеспечение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339,6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 617,0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1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храна семьи и дет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209,7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 917,4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07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ругие вопросы в области социальной поли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6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14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,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11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совый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4,4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4376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95,4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695,4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4448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на выравнивание бюджетной обеспеченности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02,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02,9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31720">
                <a:tc>
                  <a:txBody>
                    <a:bodyPr lIns="106560" rIns="106560" anchor="b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межбюджетные трансферты общего характ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,5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2,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789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8" name=""/>
          <p:cNvGraphicFramePr/>
          <p:nvPr/>
        </p:nvGraphicFramePr>
        <p:xfrm>
          <a:off x="250920" y="1387440"/>
          <a:ext cx="8714880" cy="5311440"/>
        </p:xfrm>
        <a:graphic>
          <a:graphicData uri="http://schemas.openxmlformats.org/drawingml/2006/table">
            <a:tbl>
              <a:tblPr/>
              <a:tblGrid>
                <a:gridCol w="3816720"/>
                <a:gridCol w="1468800"/>
                <a:gridCol w="1740240"/>
                <a:gridCol w="168912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 раздела по бюджет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Финансирование  из бюджета муниципального района 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18 году, за счет средств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8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8320"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раздела по бюджетной классифика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едераль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ла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н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436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3820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43164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056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2400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2364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льтура, кинематограф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8412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43056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008360">
                <a:tc>
                  <a:txBody>
                    <a:bodyPr lIns="106560" rIns="1065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общего характера бюджетам субъектов Российской Федерации и муниципальных образ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106560" rIns="1065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337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106560" marR="1065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14360" y="328680"/>
            <a:ext cx="8242200" cy="54288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57120" y="1000080"/>
            <a:ext cx="46436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Муниципальной программой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является комплекс мероприятий взаимосвязанных по задачам, срокам осуществления и ресурсам в сфере социально-экономического развития Большесолдатского района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0" lang="ru-RU" sz="2200" spc="-1" strike="noStrike">
                <a:solidFill>
                  <a:srgbClr val="0070c0"/>
                </a:solidFill>
                <a:latin typeface="Times New Roman"/>
              </a:rPr>
              <a:t>В 2018 году из бюджета муниципального района «Большесолдатский район» Курской области осуществлялось финансирование на реализацию мероприятий по 16 муниципальным программам .</a:t>
            </a:r>
            <a:endParaRPr b="0" lang="en-US" sz="2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633240" y="4565520"/>
            <a:ext cx="3200400" cy="22989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5492880" y="920880"/>
            <a:ext cx="3369960" cy="2797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4992840" y="3852720"/>
            <a:ext cx="358452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11040" y="109440"/>
            <a:ext cx="8442360" cy="66528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79280" y="907920"/>
            <a:ext cx="878544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68360" y="907920"/>
          <a:ext cx="8281440" cy="5662440"/>
        </p:xfrm>
        <a:graphic>
          <a:graphicData uri="http://schemas.openxmlformats.org/drawingml/2006/table">
            <a:tbl>
              <a:tblPr/>
              <a:tblGrid>
                <a:gridCol w="6452640"/>
                <a:gridCol w="1828800"/>
              </a:tblGrid>
              <a:tr h="928080"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 руб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243000">
                <a:tc>
                  <a:txBody>
                    <a:bodyPr lIns="9360" rIns="93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5 573,4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75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культуры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 413,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75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циальная поддержка граждан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440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608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образования Большесолдатского района Курской области на 2018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 559,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7040">
                <a:tc>
                  <a:txBody>
                    <a:bodyPr lIns="9360" rIns="9360" anchor="b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Энергосбережение и повышение энергетической эффективности в Большесолдатском районе Курской области на 2018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3,6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75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храна окружающей среды Большесолдатского района Курской области на 2018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63,0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591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Обеспечение доступным и комфортным жильем и коммунальными услугами граждан Большесолдатского района Курской области на 2018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5,8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8215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работы с молодежью, организация отдыха и оздоровления детей, молодежи, развитие физической культуры и спорта в Большесолдатском  районе 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45,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49500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Развитие муниципальной службы  Большесолдатского района Курской области на 2017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8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250920" y="1341360"/>
          <a:ext cx="8570520" cy="5403600"/>
        </p:xfrm>
        <a:graphic>
          <a:graphicData uri="http://schemas.openxmlformats.org/drawingml/2006/table">
            <a:tbl>
              <a:tblPr/>
              <a:tblGrid>
                <a:gridCol w="6654240"/>
                <a:gridCol w="1916280"/>
              </a:tblGrid>
              <a:tr h="397080"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умма за 201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000082"/>
                        </a:gs>
                        <a:gs pos="100000">
                          <a:srgbClr val="ff8200"/>
                        </a:gs>
                      </a:gsLst>
                      <a:lin ang="5400000"/>
                    </a:gradFill>
                  </a:tcPr>
                </a:tc>
              </a:tr>
              <a:tr h="58392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хранение и развитие архивного дела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1,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4196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транспортной системы, обеспечение перевозки пассажиров и безопасности дорожного движения Большесолдатского района Курской области на 2017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 063,7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524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рофилактика правонарушений в Большесолдатском районе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9,8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879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 программа «Защита населения и территории от чрезвычайных ситуаций, обеспечение пожарной безопасности и безопасности людей на водных объектах в Большесолдатском районе Курской области на 2016-2020 год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2,2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23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Повышение эффективности управления финансами Большесолдатского района Курской области на 2015-2020 годы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624,3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520560">
                <a:tc>
                  <a:txBody>
                    <a:bodyPr lIns="9360" rIns="936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Развитие малого и среднего предпринимательства Большесолдатского района Курской области на 2018 год и на плановый период 2019-2020 годов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1,0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68292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"Содействие занятости населения Большесолдатского района Курской области на 2018 год и на плановый период 2019-2020 годов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6,0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741600">
                <a:tc>
                  <a:txBody>
                    <a:bodyPr lIns="9360" rIns="936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ая программа «Социальное развитие села Большесолдатского района Курской области на 2014-2017 годы и на период до 2020 года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360" rIns="9360" anchor="b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7,5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b" marL="9360" marR="936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468360" y="33336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Расходы бюджета на реализацию муниципальных программ муниципального района «Большесолдатского район» Курской области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450720" y="85680"/>
            <a:ext cx="8242560" cy="14144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417600" y="1577880"/>
            <a:ext cx="822960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14360" y="122400"/>
            <a:ext cx="5700600" cy="27432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5840" y="2643120"/>
            <a:ext cx="87152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b3e21"/>
                </a:solidFill>
                <a:latin typeface="Times New Roman"/>
              </a:rPr>
              <a:t>В 2018 году в районе в отрасли образования функционировало 24 учреждения, в отрасли культуры функционировало 3 учреждения, 1 учреждение по обслуживанию органов местного самоуправления,  6 учреждений  органов местного самоуправления, 7 сельских поселени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5992920" y="133200"/>
            <a:ext cx="2943000" cy="2586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281160" y="3992400"/>
            <a:ext cx="4224240" cy="27324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4780080" y="3992400"/>
            <a:ext cx="4082760" cy="273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53880" y="109440"/>
            <a:ext cx="8429760" cy="217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395280" y="2276640"/>
          <a:ext cx="8426160" cy="4052520"/>
        </p:xfrm>
        <a:graphic>
          <a:graphicData uri="http://schemas.openxmlformats.org/drawingml/2006/table">
            <a:tbl>
              <a:tblPr/>
              <a:tblGrid>
                <a:gridCol w="7218360"/>
                <a:gridCol w="1207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сходы дорожного фонда по направлениям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363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, тыс. рубл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aa8a14"/>
                        </a:gs>
                        <a:gs pos="100000">
                          <a:srgbClr val="4f4009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06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  сети автомобильных дорог общего пользования и искусственных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,66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61992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сети автомобильных дорог общего пользования  и искусственных  сооружений на н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 ,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1092240"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ектирование, строительство, реконструкцию, дорог общего пользования с твердым покрытием до сельских населенных пунктов, не имеющих круглогодичной связи с сетью автомобильных дорог общего пользова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003,4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</a:tr>
              <a:tr h="358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279,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  <a:tr h="35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ддержка дорожного хозяй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4,63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solidFill>
                      <a:srgbClr val="aa8a14"/>
                    </a:solidFill>
                  </a:tcPr>
                </a:tc>
              </a:tr>
            </a:tbl>
          </a:graphicData>
        </a:graphic>
      </p:graphicFrame>
      <p:grpSp>
        <p:nvGrpSpPr>
          <p:cNvPr id="203" name=""/>
          <p:cNvGrpSpPr/>
          <p:nvPr/>
        </p:nvGrpSpPr>
        <p:grpSpPr>
          <a:xfrm>
            <a:off x="115920" y="225360"/>
            <a:ext cx="8831160" cy="766800"/>
            <a:chOff x="115920" y="225360"/>
            <a:chExt cx="8831160" cy="766800"/>
          </a:xfrm>
        </p:grpSpPr>
        <p:pic>
          <p:nvPicPr>
            <p:cNvPr id="204" name="" descr=""/>
            <p:cNvPicPr/>
            <p:nvPr/>
          </p:nvPicPr>
          <p:blipFill>
            <a:blip r:embed="rId3"/>
            <a:stretch/>
          </p:blipFill>
          <p:spPr>
            <a:xfrm>
              <a:off x="115920" y="225360"/>
              <a:ext cx="883116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0960" y="291960"/>
              <a:ext cx="8649000" cy="58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cc"/>
                  </a:solidFill>
                  <a:latin typeface="Times New Roman"/>
                  <a:ea typeface="DejaVu Sans"/>
                </a:rPr>
                <a:t>Дорожный фонд Большесолдатского района за 2018 год</a:t>
              </a:r>
              <a:endParaRPr b="0" lang="en-US" sz="2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</p:spTree>
  </p:cSld>
  <p:transition spd="med" advTm="5000">
    <p:blinds dir="horz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dur="indefinite" nodeType="clickEffect" fill="hold">
                      <p:stCondLst>
                        <p:cond delay="0"/>
                      </p:stCondLst>
                      <p:childTnLst>
                        <p:par>
                          <p:cTn id="13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419720" y="115920"/>
            <a:ext cx="4610160" cy="34574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684360" y="260280"/>
            <a:ext cx="8064360" cy="63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д муниципальным долгом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нимается совокупность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долговых обязательств муниципального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Муниципальный долг полностью и без условий обеспечивается всем муниципальным имуществом, составляющим муниципальную казну. 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Расходы на обслуживание муниципального долга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Arial"/>
                <a:ea typeface="DejaVu Sans"/>
              </a:rPr>
              <a:t>за 2018 год составил 0 тыс. рублей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По состоянию на 01.01.2019 года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(как и на 01.01.2018 года) муниципальный район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«Большесолдатский район»  Курской области задолженности по бюджетным кредитам, предоставленным из областного бюджета,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не имеет.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  </a:t>
            </a:r>
            <a:r>
              <a:rPr b="1" lang="ru-RU" sz="1800" spc="-1" strike="noStrike">
                <a:solidFill>
                  <a:srgbClr val="3333cc"/>
                </a:solidFill>
                <a:latin typeface="Times New Roman"/>
                <a:ea typeface="DejaVu Sans"/>
              </a:rPr>
              <a:t>В 2018 году из областного бюджета бюджету муниципального района бюджетные кредиты не выдавали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767560" y="4121280"/>
            <a:ext cx="3290760" cy="2468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50720" y="249120"/>
            <a:ext cx="8242560" cy="17449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57200" y="2349360"/>
            <a:ext cx="80024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307850, Курская обл.,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с. Большое Солдатское,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ул. Кооперативная, 21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Управление финансов Администрации Большесолдатского района Курской област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факс:(47136) 2-13-94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ел.: (47136)  2-14-43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E-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bsupr@mail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en-US" sz="2000" spc="-1" strike="noStrike">
                <a:solidFill>
                  <a:srgbClr val="3333cc"/>
                </a:solidFill>
                <a:latin typeface="Book Antiqua"/>
              </a:rPr>
              <a:t>ru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График работы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: понедельник-пятница с 8-00 до 16-00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547560" indent="-411120"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cc"/>
                </a:solidFill>
                <a:latin typeface="Times New Roman"/>
              </a:rPr>
              <a:t>Суббота, воскресенье - выходные дни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242560" cy="153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2" name=""/>
          <p:cNvGraphicFramePr/>
          <p:nvPr/>
        </p:nvGraphicFramePr>
        <p:xfrm>
          <a:off x="457200" y="1712880"/>
          <a:ext cx="8230680" cy="4308120"/>
        </p:xfrm>
        <a:graphic>
          <a:graphicData uri="http://schemas.openxmlformats.org/drawingml/2006/table">
            <a:tbl>
              <a:tblPr/>
              <a:tblGrid>
                <a:gridCol w="2675160"/>
                <a:gridCol w="5555520"/>
              </a:tblGrid>
              <a:tr h="119592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гда проводятся публичные слушания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 бюджете на очередной финансовый год и на плановый период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343080" indent="-343080" algn="just">
                        <a:lnSpc>
                          <a:spcPct val="96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buClr>
                          <a:srgbClr val="000000"/>
                        </a:buClr>
                        <a:buFont typeface="Times New Roman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и рассмотрении проекта закона об исполнении бюджета за отчетный пери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073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к информируются граждане о проведении публичных слушаний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звещение о проведении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мещается на официальном сайте Администрации Большесолдатского района Курской обл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208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езультат публичных слуш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формляется итоговый документ публичных слушаний с учетом высказанных экспертами рекомендаций и предложений. Итоговый документ размещается на официальном сайте Администрации Большесолдатского района Курской обла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83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можно получить дополнительную информацию о публичных слушаниях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дставительное Собрание Большесолдатского района Курской области по адресу: 307850,  Большесолдатский район, с. Большое Солдатское, ул. Мира,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57120" y="4214880"/>
            <a:ext cx="8429760" cy="26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БЮДЖЕТ ДЛЯ ГРАЖДАН – </a:t>
            </a:r>
            <a:r>
              <a:rPr b="0" i="1" lang="ru-RU" sz="2800" spc="-1" strike="noStrike">
                <a:solidFill>
                  <a:srgbClr val="002060"/>
                </a:solidFill>
                <a:latin typeface="Times New Roman"/>
              </a:rPr>
              <a:t>это упрощенная версия бюджетного документа, которая использует неформальный язык и доступные форматы, чтобы облегчить для граждан понимание бюджета. Он содержит информационно-аналитический материал, доступный для широкого круга неподготовленных пользователей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80000"/>
              </a:lnSpc>
              <a:spcBef>
                <a:spcPts val="7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66640" y="2560680"/>
            <a:ext cx="4511880" cy="16574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5572080" y="214200"/>
            <a:ext cx="3357720" cy="24195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2920" y="9720"/>
            <a:ext cx="5214960" cy="27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2014 года все финансовые органы страны составляют на регулярной основе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ельный аналитический докумен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содержит основные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я закона (решения) о бюджете и отчета о его исполнении в доступной и понятной форме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ержите в руках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познакомит вас с основными положениями бюджета муниципального района «Большесолдатский район» Курской области за 2018 год .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3680" y="152280"/>
            <a:ext cx="8242200" cy="1122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8360" y="1052640"/>
            <a:ext cx="820728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16000" indent="-216000" algn="just">
              <a:lnSpc>
                <a:spcPct val="70000"/>
              </a:lnSpc>
              <a:spcBef>
                <a:spcPts val="388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Бюджет</a:t>
            </a:r>
            <a:r>
              <a:rPr b="0" lang="ru-RU" sz="2400" spc="-1" strike="noStrike">
                <a:solidFill>
                  <a:srgbClr val="ff99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лан доходов и расходов для  обеспечения задач и   функций государ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388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«Программный бюджет»</a:t>
            </a: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, сформированный в соответствии с утвержденными муниципальными программами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Дефицит бюджета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ходная часть бюджета превышает доходную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Профицит бюджета -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жительный остаток бюджета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ходная часть бюджета превышает расходную)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marL="216000" indent="-216000" algn="just">
              <a:lnSpc>
                <a:spcPct val="70000"/>
              </a:lnSpc>
              <a:spcBef>
                <a:spcPts val="612"/>
              </a:spcBef>
              <a:spcAft>
                <a:spcPts val="11"/>
              </a:spcAft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Бюджет для граждан об исполнении составляется на один год.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38120" y="79200"/>
            <a:ext cx="8388360" cy="1463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100000"/>
              </a:lnSpc>
              <a:spcBef>
                <a:spcPts val="513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42960" y="1773360"/>
          <a:ext cx="8002080" cy="4555800"/>
        </p:xfrm>
        <a:graphic>
          <a:graphicData uri="http://schemas.openxmlformats.org/drawingml/2006/table">
            <a:tbl>
              <a:tblPr/>
              <a:tblGrid>
                <a:gridCol w="4000680"/>
                <a:gridCol w="4001400"/>
              </a:tblGrid>
              <a:tr h="97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                                    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(тыс. рубле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Кассовое испол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1219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До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6 804,8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1438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 755,7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92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ru-RU" sz="19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 049,06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2852640" y="2992320"/>
            <a:ext cx="3127320" cy="287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5920" y="66600"/>
            <a:ext cx="8831160" cy="852480"/>
            <a:chOff x="115920" y="66600"/>
            <a:chExt cx="8831160" cy="852480"/>
          </a:xfrm>
        </p:grpSpPr>
        <p:pic>
          <p:nvPicPr>
            <p:cNvPr id="153" name="" descr=""/>
            <p:cNvPicPr/>
            <p:nvPr/>
          </p:nvPicPr>
          <p:blipFill>
            <a:blip r:embed="rId2"/>
            <a:stretch/>
          </p:blipFill>
          <p:spPr>
            <a:xfrm>
              <a:off x="115920" y="66600"/>
              <a:ext cx="8831160" cy="852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4" name=""/>
            <p:cNvGrpSpPr/>
            <p:nvPr/>
          </p:nvGrpSpPr>
          <p:grpSpPr>
            <a:xfrm>
              <a:off x="209520" y="171360"/>
              <a:ext cx="8656560" cy="666720"/>
              <a:chOff x="209520" y="171360"/>
              <a:chExt cx="8656560" cy="666720"/>
            </a:xfrm>
          </p:grpSpPr>
          <p:pic>
            <p:nvPicPr>
              <p:cNvPr id="15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9520" y="171360"/>
                <a:ext cx="8656560" cy="66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>
                <a:off x="254160" y="184320"/>
                <a:ext cx="8259480" cy="40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1"/>
                  </a:spcBef>
                  <a:spcAft>
                    <a:spcPts val="1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Constantia"/>
                    <a:ea typeface="DejaVu Sans"/>
                  </a:rPr>
                  <a:t>Доходы бюджета</a:t>
                </a:r>
                <a:endParaRPr b="0" lang="en-US" sz="2400" spc="-1" strike="noStrike">
                  <a:solidFill>
                    <a:srgbClr val="000000"/>
                  </a:solidFill>
                  <a:latin typeface="DejaVu Sans"/>
                </a:endParaRPr>
              </a:p>
            </p:txBody>
          </p:sp>
        </p:grpSp>
      </p:grpSp>
      <p:sp>
        <p:nvSpPr>
          <p:cNvPr id="157" name=""/>
          <p:cNvSpPr/>
          <p:nvPr/>
        </p:nvSpPr>
        <p:spPr>
          <a:xfrm>
            <a:off x="2627280" y="981000"/>
            <a:ext cx="539928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Поступающие в бюджет денежные средства являются 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c0000"/>
                </a:solidFill>
                <a:latin typeface="Constantia"/>
                <a:ea typeface="DejaVu Sans"/>
              </a:rPr>
              <a:t>ДОХОДАМИ БЮДЖЕТА</a:t>
            </a:r>
            <a:endParaRPr b="0" lang="en-US" sz="16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8" name=""/>
          <p:cNvSpPr/>
          <p:nvPr/>
        </p:nvSpPr>
        <p:spPr>
          <a:xfrm rot="2340000">
            <a:off x="3131640" y="1773360"/>
            <a:ext cx="223920" cy="1025280"/>
          </a:xfrm>
          <a:custGeom>
            <a:avLst/>
            <a:gdLst/>
            <a:ahLst/>
            <a:rect l="l" t="t" r="r" b="b"/>
            <a:pathLst>
              <a:path w="654" h="2848">
                <a:moveTo>
                  <a:pt x="0" y="1202"/>
                </a:moveTo>
                <a:lnTo>
                  <a:pt x="638" y="1202"/>
                </a:lnTo>
                <a:lnTo>
                  <a:pt x="638" y="0"/>
                </a:lnTo>
                <a:lnTo>
                  <a:pt x="-16" y="0"/>
                </a:lnTo>
                <a:lnTo>
                  <a:pt x="-16" y="1202"/>
                </a:lnTo>
                <a:lnTo>
                  <a:pt x="622" y="1202"/>
                </a:lnTo>
                <a:lnTo>
                  <a:pt x="311" y="2848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9" name=""/>
          <p:cNvSpPr/>
          <p:nvPr/>
        </p:nvSpPr>
        <p:spPr>
          <a:xfrm rot="19260000">
            <a:off x="7234200" y="1774440"/>
            <a:ext cx="223920" cy="1006560"/>
          </a:xfrm>
          <a:custGeom>
            <a:avLst/>
            <a:gdLst/>
            <a:ahLst/>
            <a:rect l="l" t="t" r="r" b="b"/>
            <a:pathLst>
              <a:path w="653" h="2795">
                <a:moveTo>
                  <a:pt x="0" y="951"/>
                </a:moveTo>
                <a:lnTo>
                  <a:pt x="637" y="951"/>
                </a:lnTo>
                <a:lnTo>
                  <a:pt x="637" y="0"/>
                </a:lnTo>
                <a:lnTo>
                  <a:pt x="-16" y="0"/>
                </a:lnTo>
                <a:lnTo>
                  <a:pt x="-16" y="951"/>
                </a:lnTo>
                <a:lnTo>
                  <a:pt x="621" y="951"/>
                </a:lnTo>
                <a:lnTo>
                  <a:pt x="311" y="2795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0" name=""/>
          <p:cNvSpPr/>
          <p:nvPr/>
        </p:nvSpPr>
        <p:spPr>
          <a:xfrm>
            <a:off x="5003640" y="1844640"/>
            <a:ext cx="223920" cy="936720"/>
          </a:xfrm>
          <a:custGeom>
            <a:avLst/>
            <a:gdLst/>
            <a:ahLst/>
            <a:rect l="l" t="t" r="r" b="b"/>
            <a:pathLst>
              <a:path w="654" h="2602">
                <a:moveTo>
                  <a:pt x="0" y="1368"/>
                </a:moveTo>
                <a:lnTo>
                  <a:pt x="638" y="1368"/>
                </a:lnTo>
                <a:lnTo>
                  <a:pt x="638" y="0"/>
                </a:lnTo>
                <a:lnTo>
                  <a:pt x="-16" y="0"/>
                </a:lnTo>
                <a:lnTo>
                  <a:pt x="-16" y="1368"/>
                </a:lnTo>
                <a:lnTo>
                  <a:pt x="622" y="1368"/>
                </a:lnTo>
                <a:lnTo>
                  <a:pt x="311" y="2602"/>
                </a:lnTo>
                <a:close/>
              </a:path>
            </a:pathLst>
          </a:custGeom>
          <a:solidFill>
            <a:srgbClr val="fff0c9"/>
          </a:solidFill>
          <a:ln w="25560">
            <a:solidFill>
              <a:srgbClr val="b07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8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139760" y="2981160"/>
            <a:ext cx="2644920" cy="3765600"/>
            <a:chOff x="1139760" y="2981160"/>
            <a:chExt cx="2644920" cy="3765600"/>
          </a:xfrm>
        </p:grpSpPr>
        <p:pic>
          <p:nvPicPr>
            <p:cNvPr id="162" name="" descr=""/>
            <p:cNvPicPr/>
            <p:nvPr/>
          </p:nvPicPr>
          <p:blipFill>
            <a:blip r:embed="rId4"/>
            <a:stretch/>
          </p:blipFill>
          <p:spPr>
            <a:xfrm>
              <a:off x="1139760" y="2981160"/>
              <a:ext cx="264492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297080" y="3106800"/>
              <a:ext cx="2011320" cy="31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АЛОГИ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часть доходов граждан и организаций, которые они обязаны заплатить государству (например, налог на доходы физических лиц, налог на прибыль, налог на имущество физических лиц, земельный налог, транспортный налог и др.)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876840" y="2981160"/>
            <a:ext cx="2717640" cy="3765600"/>
            <a:chOff x="3876840" y="2981160"/>
            <a:chExt cx="2717640" cy="3765600"/>
          </a:xfrm>
        </p:grpSpPr>
        <p:pic>
          <p:nvPicPr>
            <p:cNvPr id="165" name="" descr=""/>
            <p:cNvPicPr/>
            <p:nvPr/>
          </p:nvPicPr>
          <p:blipFill>
            <a:blip r:embed="rId5"/>
            <a:stretch/>
          </p:blipFill>
          <p:spPr>
            <a:xfrm>
              <a:off x="3876840" y="2981160"/>
              <a:ext cx="2717640" cy="376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4037040" y="3110040"/>
              <a:ext cx="207648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НЕНАЛОГОВЫЕ ДОХОДЫ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– платежи в виде штрафов, санкций за нарушение законодательства, платежи за пользование имуществом государства, средства самообложения граждан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6540480" y="3048120"/>
            <a:ext cx="2718000" cy="3698640"/>
            <a:chOff x="6540480" y="3048120"/>
            <a:chExt cx="2718000" cy="3698640"/>
          </a:xfrm>
        </p:grpSpPr>
        <p:pic>
          <p:nvPicPr>
            <p:cNvPr id="168" name="" descr=""/>
            <p:cNvPicPr/>
            <p:nvPr/>
          </p:nvPicPr>
          <p:blipFill>
            <a:blip r:embed="rId6"/>
            <a:stretch/>
          </p:blipFill>
          <p:spPr>
            <a:xfrm>
              <a:off x="6540480" y="3048120"/>
              <a:ext cx="2718000" cy="36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6700680" y="3181320"/>
              <a:ext cx="2076480" cy="30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"/>
                </a:spcBef>
                <a:spcAft>
                  <a:spcPts val="1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cc0000"/>
                  </a:solidFill>
                  <a:latin typeface="Constantia"/>
                  <a:ea typeface="DejaVu Sans"/>
                </a:rPr>
                <a:t>БЕЗВОЗМЕЗДНЫЕ ПОСТУПЛЕНИЯ</a:t>
              </a:r>
              <a:r>
                <a:rPr b="1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 </a:t>
              </a:r>
              <a:r>
                <a:rPr b="0" lang="ru-RU" sz="1400" spc="-1" strike="noStrike">
                  <a:solidFill>
                    <a:srgbClr val="ffffff"/>
                  </a:solidFill>
                  <a:latin typeface="Constantia"/>
                  <a:ea typeface="DejaVu Sans"/>
                </a:rPr>
                <a:t>– </a:t>
              </a:r>
              <a:r>
                <a:rPr b="0" lang="ru-RU" sz="1400" spc="-1" strike="noStrike">
                  <a:solidFill>
                    <a:srgbClr val="f1ebdf"/>
                  </a:solidFill>
                  <a:latin typeface="Constantia"/>
                  <a:ea typeface="DejaVu Sans"/>
                </a:rPr>
                <a:t>средства, которые поступают в бюджет безвозмездно (денежные средства, поступающие из вышестоящего бюджета (например, дотация из областного бюджета), а также безвозмездные перечисления от физических и юридических лиц) </a:t>
              </a:r>
              <a:endParaRPr b="0" lang="en-US" sz="1400" spc="-1" strike="noStrike">
                <a:solidFill>
                  <a:srgbClr val="000000"/>
                </a:solidFill>
                <a:latin typeface="DejaVu Sans"/>
              </a:endParaRPr>
            </a:p>
          </p:txBody>
        </p:sp>
      </p:grpSp>
      <p:pic>
        <p:nvPicPr>
          <p:cNvPr id="170" name="" descr=""/>
          <p:cNvPicPr/>
          <p:nvPr/>
        </p:nvPicPr>
        <p:blipFill>
          <a:blip r:embed="rId7"/>
          <a:stretch/>
        </p:blipFill>
        <p:spPr>
          <a:xfrm>
            <a:off x="179280" y="981000"/>
            <a:ext cx="2592360" cy="175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214200" y="1071720"/>
          <a:ext cx="8751600" cy="5643000"/>
        </p:xfrm>
        <a:graphic>
          <a:graphicData uri="http://schemas.openxmlformats.org/drawingml/2006/table">
            <a:tbl>
              <a:tblPr/>
              <a:tblGrid>
                <a:gridCol w="2964240"/>
                <a:gridCol w="2423160"/>
                <a:gridCol w="3364200"/>
              </a:tblGrid>
              <a:tr h="78264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ctr">
                        <a:lnSpc>
                          <a:spcPts val="144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алогия в семейном бюджет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13320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та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tati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без определения конкр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«карманные деньг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dbdb"/>
                    </a:solidFill>
                  </a:tcPr>
                </a:tc>
              </a:tr>
              <a:tr h="188496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венц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venire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нанс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ереданных» други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блично-правовы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marL="15228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ям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216000">
                        <a:lnSpc>
                          <a:spcPts val="1899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даете своему ребенку деньги и посылаете его в магазин купить продукты (по списку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c0d9"/>
                    </a:solidFill>
                  </a:tcPr>
                </a:tc>
              </a:tr>
              <a:tr h="1643400"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(от лат. «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bsidium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» - поддерж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marL="152280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  <a:tc>
                  <a:txBody>
                    <a:bodyPr lIns="4320" rIns="4320" anchor="t">
                      <a:noAutofit/>
                    </a:bodyPr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«добавляете» денег для того, чтоб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ебенок купил себе новый телеф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just">
                        <a:lnSpc>
                          <a:spcPts val="1925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а остальные он накопил са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4320" marR="432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6dde8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1571760" y="0"/>
            <a:ext cx="56689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ежбюджетные трансферты - основной вид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безвозмездных перечислений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0720" y="-79200"/>
            <a:ext cx="8382240" cy="101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4" name=""/>
          <p:cNvGraphicFramePr/>
          <p:nvPr/>
        </p:nvGraphicFramePr>
        <p:xfrm>
          <a:off x="142920" y="714240"/>
          <a:ext cx="8859600" cy="6130800"/>
        </p:xfrm>
        <a:graphic>
          <a:graphicData uri="http://schemas.openxmlformats.org/drawingml/2006/table">
            <a:tbl>
              <a:tblPr/>
              <a:tblGrid>
                <a:gridCol w="1523880"/>
                <a:gridCol w="3704400"/>
                <a:gridCol w="1816560"/>
                <a:gridCol w="1814760"/>
              </a:tblGrid>
              <a:tr h="72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18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8 год </a:t>
                      </a: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тыс.руб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 716,75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 533,0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прибыль,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 777,9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 781,5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3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товары (работы, услуги), реализуемые на территории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917,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73,7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14,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40,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5,6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0,6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73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использования имущества, находящегося в государственной и муниципаль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13,0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548,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тежи при пользовании природными ресурс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9,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876,5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692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оказания платных услуг (работ) и компенсации затрат государ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57,2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343,0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ходы от продажи материальных и нематериальных актив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3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8,7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трафы, санкции, возмещение ущер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2,78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3,8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1 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неналоговые 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4,1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250920" y="1268280"/>
          <a:ext cx="8570520" cy="5473440"/>
        </p:xfrm>
        <a:graphic>
          <a:graphicData uri="http://schemas.openxmlformats.org/drawingml/2006/table">
            <a:tbl>
              <a:tblPr/>
              <a:tblGrid>
                <a:gridCol w="1487520"/>
                <a:gridCol w="4058640"/>
                <a:gridCol w="1584720"/>
                <a:gridCol w="1439640"/>
              </a:tblGrid>
              <a:tr h="72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од бюджетно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классифик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едусмотрен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сполн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1082520"/>
                          <a:tab algn="l" pos="2165400"/>
                          <a:tab algn="l" pos="3247920"/>
                          <a:tab algn="l" pos="4330800"/>
                          <a:tab algn="l" pos="5413320"/>
                          <a:tab algn="l" pos="6496200"/>
                          <a:tab algn="l" pos="7578720"/>
                          <a:tab algn="l" pos="8661240"/>
                          <a:tab algn="l" pos="9744120"/>
                          <a:tab algn="l" pos="1082664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за 2018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 331,3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2 271,7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возмездные поступления от других бюджетов бюджетной системы 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 837,3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1 779,6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бюджетной системы РФ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228,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 228,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9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бюджетной системы Российской Федерации (межбюджетные субсиди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537,0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 479,3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бюджетам  бюджетной системы  Российской Фед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 405,9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 405,9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3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2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5,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5,7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 безвозмездные по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48,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728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 2 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т остатков субсидий, субвенций и иных межбюджетных трансфертов, имеющих целевое назначение, прошлых ле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6,0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83000"/>
                        </a:lnSpc>
                        <a:spcBef>
                          <a:spcPts val="11"/>
                        </a:spcBef>
                        <a:spcAft>
                          <a:spcPts val="1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56,0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DejaVu Sans"/>
                      </a:endParaRPr>
                    </a:p>
                  </a:txBody>
                  <a:tcPr anchor="ctr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0720" y="103320"/>
            <a:ext cx="8382240" cy="1019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5T11:14:49Z</dcterms:created>
  <dc:creator>Людмила Михайловна</dc:creator>
  <dc:description/>
  <dc:language>en-US</dc:language>
  <cp:lastModifiedBy>User</cp:lastModifiedBy>
  <cp:lastPrinted>2017-05-22T12:51:03Z</cp:lastPrinted>
  <dcterms:modified xsi:type="dcterms:W3CDTF">2019-04-25T05:16:03Z</dcterms:modified>
  <cp:revision>495</cp:revision>
  <dc:subject/>
  <dc:title>Муниципальное образование Большесолдатский муниципальный район Курской обла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