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8EA-F3B2-4B0C-BE2F-0724BD9F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737-5EBC-4A47-B170-5D14E87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1E3-0CE6-41B4-8E45-4300BD4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F88-69AC-4083-AA33-EFAE2D4A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A40-7B22-4F01-9DDD-C510839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9175-30A9-48A7-9484-F559343A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56FC-5383-4D4C-A5FA-4D59CA28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E8D-CE09-4FC6-BDD1-65DFCC7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228B-07C1-4422-86F9-9EDCB50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9A0-9E71-4988-9A2B-17F1059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018E-600B-457A-93C6-EB4B793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DDC-3D9F-4765-A979-CF10FF9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BBD2-85EE-4210-BF43-C9399E2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9A52-5065-4ADD-A039-2A28D9E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96E8-92C8-4D41-9D99-E3D08AD8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861B-1919-4105-8334-27C479F6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33B6-0180-41CA-B89C-AF63EFE3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8AE7-DB49-4CBE-9F98-80B8ED74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07B8-C5EC-4681-84C6-22FC3DC0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6159-54E2-4ED4-9D20-47139C0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0C8B-AA42-4BFB-B279-47FC0C8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4FA8-C16D-4AD4-A740-53FB50BE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EE2-C092-46A4-8A42-08F4AFA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002A-F1A9-406F-B7EA-62FDE00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B387-547D-4E20-ACFF-5F5976B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EAB2-9940-4370-9B83-CB008DF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AAC5-E674-41FD-9EF7-9C1B758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1F3E-34B6-4747-9EE1-8A4636F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7A4A-44C0-439E-8518-2EBA2626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2CC3-7D1F-41F3-8F0E-FA436A9D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AA2-8C70-4A90-97B0-2EC2DBB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073-42AB-4C55-B82F-7A0D468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1D2-D212-474D-94CE-F456736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972-4664-4EEB-9814-0A7AE5B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2E0-D862-4F70-8181-FD86FF7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65B-5663-4F0E-99E9-3C7B036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A361-E1C7-4CB3-8CBA-2B3243505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B9E-A9A2-4A03-A44D-0A6DD9D2C6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D7F0-A9A8-41F9-BFD7-C28AAA46B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755720" y="225360"/>
            <a:ext cx="6851880" cy="1414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Times New Roman"/>
              </a:rPr>
              <a:t>по годовому отчету об исполнении бюдже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Times New Roman"/>
              </a:rPr>
              <a:t>муниципального района  «Большесолдатский район»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Times New Roman"/>
              </a:rPr>
              <a:t>Курской области за 2017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4" descr="302"/>
          <p:cNvPicPr/>
          <p:nvPr/>
        </p:nvPicPr>
        <p:blipFill>
          <a:blip r:embed="rId2"/>
          <a:stretch/>
        </p:blipFill>
        <p:spPr>
          <a:xfrm>
            <a:off x="1042920" y="189000"/>
            <a:ext cx="1495440" cy="1714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99160" y="198900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4105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3" descr=""/>
          <p:cNvPicPr/>
          <p:nvPr/>
        </p:nvPicPr>
        <p:blipFill>
          <a:blip r:embed="rId2"/>
          <a:stretch/>
        </p:blipFill>
        <p:spPr>
          <a:xfrm>
            <a:off x="85680" y="1376280"/>
            <a:ext cx="8929800" cy="5033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79280" y="1268280"/>
          <a:ext cx="8785440" cy="5072040"/>
        </p:xfrm>
        <a:graphic>
          <a:graphicData uri="http://schemas.openxmlformats.org/drawingml/2006/table">
            <a:tbl>
              <a:tblPr/>
              <a:tblGrid>
                <a:gridCol w="936720"/>
                <a:gridCol w="4799160"/>
                <a:gridCol w="1525320"/>
                <a:gridCol w="1524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 136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 890,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951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79,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82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5,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5,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7,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2,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837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31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76,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50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06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54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62,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29,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179280" y="1413000"/>
          <a:ext cx="8713800" cy="5087880"/>
        </p:xfrm>
        <a:graphic>
          <a:graphicData uri="http://schemas.openxmlformats.org/drawingml/2006/table">
            <a:tbl>
              <a:tblPr/>
              <a:tblGrid>
                <a:gridCol w="1078200"/>
                <a:gridCol w="4538520"/>
                <a:gridCol w="165744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781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807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88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965,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305,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00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748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85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674,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349,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8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2,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7,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51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85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33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66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85,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33,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79280" y="1484280"/>
          <a:ext cx="8785440" cy="5052960"/>
        </p:xfrm>
        <a:graphic>
          <a:graphicData uri="http://schemas.openxmlformats.org/drawingml/2006/table">
            <a:tbl>
              <a:tblPr/>
              <a:tblGrid>
                <a:gridCol w="1087560"/>
                <a:gridCol w="4600440"/>
                <a:gridCol w="158436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7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 688,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127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81,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052,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6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423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 303,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4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16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05,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332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8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4,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99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09,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09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12,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786,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6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137,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12,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5,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74,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54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79280" y="1197000"/>
          <a:ext cx="8713800" cy="4829040"/>
        </p:xfrm>
        <a:graphic>
          <a:graphicData uri="http://schemas.openxmlformats.org/drawingml/2006/table">
            <a:tbl>
              <a:tblPr/>
              <a:tblGrid>
                <a:gridCol w="1078200"/>
                <a:gridCol w="4206600"/>
                <a:gridCol w="1739880"/>
                <a:gridCol w="16891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7 год  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599,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356,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72,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629,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531,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51,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76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76,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18,6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18,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506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90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90,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374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27,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27,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250920" y="1387440"/>
          <a:ext cx="8713800" cy="5330880"/>
        </p:xfrm>
        <a:graphic>
          <a:graphicData uri="http://schemas.openxmlformats.org/drawingml/2006/table">
            <a:tbl>
              <a:tblPr/>
              <a:tblGrid>
                <a:gridCol w="3816360"/>
                <a:gridCol w="1468440"/>
                <a:gridCol w="1739880"/>
                <a:gridCol w="16891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3748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3164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3020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243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8484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3056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008000"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14360" y="328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064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17 году из бюджета муниципального района «Большесолдатский район» Курской области осуществлялось финансирование на реализацию мероприятий по 15 муниципальным программам Большесолдатского района Курской об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907920"/>
          <a:ext cx="8280360" cy="5661000"/>
        </p:xfrm>
        <a:graphic>
          <a:graphicData uri="http://schemas.openxmlformats.org/drawingml/2006/table">
            <a:tbl>
              <a:tblPr/>
              <a:tblGrid>
                <a:gridCol w="6451560"/>
                <a:gridCol w="1828800"/>
              </a:tblGrid>
              <a:tr h="93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 756,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Большесолдатского района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23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8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169,7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0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на 2015-2017 годы и на плановый период до 2019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 438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14,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65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8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4,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569080" cy="5373720"/>
        </p:xfrm>
        <a:graphic>
          <a:graphicData uri="http://schemas.openxmlformats.org/drawingml/2006/table">
            <a:tbl>
              <a:tblPr/>
              <a:tblGrid>
                <a:gridCol w="6653160"/>
                <a:gridCol w="1915920"/>
              </a:tblGrid>
              <a:tr h="44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657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 на 2015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,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8408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на 2017-2019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965,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922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,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71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 в Большесолдатском районе Курской области на 2016-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86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4,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на 2017 год и на плановый период 2018-2019 годов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6824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на 2014-2017 годы и на период до 2020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8,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2" name="Прямоугольник 1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Объект 3" descr=""/>
          <p:cNvPicPr/>
          <p:nvPr/>
        </p:nvPicPr>
        <p:blipFill>
          <a:blip r:embed="rId2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4032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436b"/>
                </a:solidFill>
                <a:latin typeface="Times New Roman"/>
              </a:rPr>
              <a:t>В 2017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8" descr="map.gif"/>
          <p:cNvPicPr/>
          <p:nvPr/>
        </p:nvPicPr>
        <p:blipFill>
          <a:blip r:embed="rId1"/>
          <a:stretch/>
        </p:blipFill>
        <p:spPr>
          <a:xfrm>
            <a:off x="4896000" y="2835360"/>
            <a:ext cx="3466800" cy="327960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44600" y="146160"/>
            <a:ext cx="8454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353880" y="109440"/>
            <a:ext cx="8429760" cy="21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395280" y="2276640"/>
          <a:ext cx="8424720" cy="4321080"/>
        </p:xfrm>
        <a:graphic>
          <a:graphicData uri="http://schemas.openxmlformats.org/drawingml/2006/table">
            <a:tbl>
              <a:tblPr/>
              <a:tblGrid>
                <a:gridCol w="7216920"/>
                <a:gridCol w="1207800"/>
              </a:tblGrid>
              <a:tr h="261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aeff"/>
                        </a:gs>
                        <a:gs pos="100000">
                          <a:srgbClr val="2c51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aeff"/>
                        </a:gs>
                        <a:gs pos="100000">
                          <a:srgbClr val="2c51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безопасности дорожного движения на автомобильных дорогах мест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3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67,4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, ремонт и содержание автомобильных дорог общего пользования местного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78,6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22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, реконструкцию, капитальный ремонт и ремонт автомобильных дорог общего пользования местного значения с твердым покрытием до сельских населенных пунктов, не имеющих круглогодичной связи с сетью автомобильных дорог общего поль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90,7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ea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349,7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eaeff"/>
                    </a:solidFill>
                  </a:tcPr>
                </a:tc>
              </a:tr>
            </a:tbl>
          </a:graphicData>
        </a:graphic>
      </p:graphicFrame>
      <p:grpSp>
        <p:nvGrpSpPr>
          <p:cNvPr id="187" name="Скругленный прямоугольник 4"/>
          <p:cNvGrpSpPr/>
          <p:nvPr/>
        </p:nvGrpSpPr>
        <p:grpSpPr>
          <a:xfrm>
            <a:off x="115920" y="225360"/>
            <a:ext cx="8832960" cy="768240"/>
            <a:chOff x="115920" y="225360"/>
            <a:chExt cx="8832960" cy="768240"/>
          </a:xfrm>
        </p:grpSpPr>
        <p:pic>
          <p:nvPicPr>
            <p:cNvPr id="18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15920" y="225360"/>
              <a:ext cx="8832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10960" y="291960"/>
              <a:ext cx="865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</a:rPr>
                <a:t>Дорожный фонд Большесолдатского района за 2017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http://bizmotiv.ru/wp-content/uploads/2015/01/491a1aa1ae0d920e2ef06e7108b67011b5.jpg"/>
          <p:cNvPicPr/>
          <p:nvPr/>
        </p:nvPicPr>
        <p:blipFill>
          <a:blip r:embed="rId1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684360" y="260280"/>
            <a:ext cx="806436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за 2017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о состоянию на 01.01.201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(как и на 01.01.2017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В 2017 году из областного бюджета бюджету муниципального района бюджетные кредиты не выдавались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684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Заголовок 3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57200" y="1712880"/>
          <a:ext cx="8229600" cy="430704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1195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7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2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4360" y="2707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609480"/>
            <a:ext cx="4986360" cy="116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go3.imgsmail.ru/imgpreview?key=76015b94b039ae6d&amp;mb=imgdb_preview_291"/>
          <p:cNvPicPr/>
          <p:nvPr/>
        </p:nvPicPr>
        <p:blipFill>
          <a:blip r:embed="rId2"/>
          <a:stretch/>
        </p:blipFill>
        <p:spPr>
          <a:xfrm>
            <a:off x="5286240" y="227160"/>
            <a:ext cx="36925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7280" y="1773360"/>
          <a:ext cx="6985080" cy="444024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97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9 266,8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3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8 890,6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87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 623, 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Скругленный прямоугольник 3"/>
          <p:cNvGrpSpPr/>
          <p:nvPr/>
        </p:nvGrpSpPr>
        <p:grpSpPr>
          <a:xfrm>
            <a:off x="115920" y="66600"/>
            <a:ext cx="8832960" cy="854280"/>
            <a:chOff x="115920" y="66600"/>
            <a:chExt cx="8832960" cy="854280"/>
          </a:xfrm>
        </p:grpSpPr>
        <p:pic>
          <p:nvPicPr>
            <p:cNvPr id="140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5920" y="66600"/>
              <a:ext cx="8832960" cy="85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Text Box 2"/>
            <p:cNvGrpSpPr/>
            <p:nvPr/>
          </p:nvGrpSpPr>
          <p:grpSpPr>
            <a:xfrm>
              <a:off x="209880" y="171360"/>
              <a:ext cx="8658000" cy="669240"/>
              <a:chOff x="209880" y="171360"/>
              <a:chExt cx="8658000" cy="669240"/>
            </a:xfrm>
          </p:grpSpPr>
          <p:pic>
            <p:nvPicPr>
              <p:cNvPr id="142" name="Text Box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880" y="171360"/>
                <a:ext cx="8658000" cy="66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254160" y="184680"/>
                <a:ext cx="826236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Box 12"/>
          <p:cNvSpPr/>
          <p:nvPr/>
        </p:nvSpPr>
        <p:spPr>
          <a:xfrm>
            <a:off x="2627280" y="981000"/>
            <a:ext cx="53992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13"/>
          <p:cNvSpPr/>
          <p:nvPr/>
        </p:nvSpPr>
        <p:spPr>
          <a:xfrm rot="2358000">
            <a:off x="3131640" y="1773000"/>
            <a:ext cx="223920" cy="1025280"/>
          </a:xfrm>
          <a:prstGeom prst="downArrow">
            <a:avLst>
              <a:gd name="adj1" fmla="val 50000"/>
              <a:gd name="adj2" fmla="val 63340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14"/>
          <p:cNvSpPr/>
          <p:nvPr/>
        </p:nvSpPr>
        <p:spPr>
          <a:xfrm rot="19246800">
            <a:off x="7235640" y="1773000"/>
            <a:ext cx="223560" cy="1006200"/>
          </a:xfrm>
          <a:prstGeom prst="downArrow">
            <a:avLst>
              <a:gd name="adj1" fmla="val 50000"/>
              <a:gd name="adj2" fmla="val 50155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15"/>
          <p:cNvSpPr/>
          <p:nvPr/>
        </p:nvSpPr>
        <p:spPr>
          <a:xfrm>
            <a:off x="5003640" y="1844640"/>
            <a:ext cx="223920" cy="936720"/>
          </a:xfrm>
          <a:prstGeom prst="downArrow">
            <a:avLst>
              <a:gd name="adj1" fmla="val 50000"/>
              <a:gd name="adj2" fmla="val 72065"/>
            </a:avLst>
          </a:pr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Скругленный прямоугольник 16"/>
          <p:cNvGrpSpPr/>
          <p:nvPr/>
        </p:nvGrpSpPr>
        <p:grpSpPr>
          <a:xfrm>
            <a:off x="1139760" y="2981160"/>
            <a:ext cx="2646360" cy="3767400"/>
            <a:chOff x="1139760" y="2981160"/>
            <a:chExt cx="2646360" cy="3767400"/>
          </a:xfrm>
        </p:grpSpPr>
        <p:pic>
          <p:nvPicPr>
            <p:cNvPr id="149" name="Скругленный прямоугольник 16" descr=""/>
            <p:cNvPicPr/>
            <p:nvPr/>
          </p:nvPicPr>
          <p:blipFill>
            <a:blip r:embed="rId3"/>
            <a:stretch/>
          </p:blipFill>
          <p:spPr>
            <a:xfrm>
              <a:off x="1139760" y="2981160"/>
              <a:ext cx="264636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297080" y="3106800"/>
              <a:ext cx="201276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Скругленный прямоугольник 17"/>
          <p:cNvGrpSpPr/>
          <p:nvPr/>
        </p:nvGrpSpPr>
        <p:grpSpPr>
          <a:xfrm>
            <a:off x="3876840" y="2981160"/>
            <a:ext cx="2719080" cy="3767400"/>
            <a:chOff x="3876840" y="2981160"/>
            <a:chExt cx="2719080" cy="3767400"/>
          </a:xfrm>
        </p:grpSpPr>
        <p:pic>
          <p:nvPicPr>
            <p:cNvPr id="152" name="Скругленный прямоугольник 17" descr=""/>
            <p:cNvPicPr/>
            <p:nvPr/>
          </p:nvPicPr>
          <p:blipFill>
            <a:blip r:embed="rId4"/>
            <a:stretch/>
          </p:blipFill>
          <p:spPr>
            <a:xfrm>
              <a:off x="3876840" y="2981160"/>
              <a:ext cx="2719080" cy="37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37040" y="3110040"/>
              <a:ext cx="2077920" cy="31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18"/>
          <p:cNvGrpSpPr/>
          <p:nvPr/>
        </p:nvGrpSpPr>
        <p:grpSpPr>
          <a:xfrm>
            <a:off x="6540480" y="3048120"/>
            <a:ext cx="2719440" cy="3700440"/>
            <a:chOff x="6540480" y="3048120"/>
            <a:chExt cx="2719440" cy="3700440"/>
          </a:xfrm>
        </p:grpSpPr>
        <p:pic>
          <p:nvPicPr>
            <p:cNvPr id="155" name="Скругленный 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6540480" y="3048120"/>
              <a:ext cx="2719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700680" y="3181320"/>
              <a:ext cx="207828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</a:rPr>
                <a:t>– </a:t>
              </a:r>
              <a:r>
                <a:rPr b="0" lang="ru-RU" sz="1400" spc="-1" strike="noStrike">
                  <a:solidFill>
                    <a:srgbClr val="ddf1fd"/>
                  </a:solidFill>
                  <a:latin typeface="Constantia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34" descr="imagesCAXB4YMV"/>
          <p:cNvPicPr/>
          <p:nvPr/>
        </p:nvPicPr>
        <p:blipFill>
          <a:blip r:embed="rId6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1071720"/>
          <a:ext cx="8750520" cy="5641920"/>
        </p:xfrm>
        <a:graphic>
          <a:graphicData uri="http://schemas.openxmlformats.org/drawingml/2006/table">
            <a:tbl>
              <a:tblPr/>
              <a:tblGrid>
                <a:gridCol w="2963880"/>
                <a:gridCol w="2422800"/>
                <a:gridCol w="3363840"/>
              </a:tblGrid>
              <a:tr h="7826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16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60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04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571760" y="3240"/>
            <a:ext cx="5668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38224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142920" y="714240"/>
          <a:ext cx="8858160" cy="6132600"/>
        </p:xfrm>
        <a:graphic>
          <a:graphicData uri="http://schemas.openxmlformats.org/drawingml/2006/table">
            <a:tbl>
              <a:tblPr/>
              <a:tblGrid>
                <a:gridCol w="1523880"/>
                <a:gridCol w="3703680"/>
                <a:gridCol w="1816200"/>
                <a:gridCol w="1814400"/>
              </a:tblGrid>
              <a:tr h="72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7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896,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 772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393,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685,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113,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66,8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06,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50,6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8,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,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96,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24,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9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04,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91,7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5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5,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9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50920" y="1268280"/>
          <a:ext cx="8569080" cy="5472360"/>
        </p:xfrm>
        <a:graphic>
          <a:graphicData uri="http://schemas.openxmlformats.org/drawingml/2006/table">
            <a:tbl>
              <a:tblPr/>
              <a:tblGrid>
                <a:gridCol w="1487520"/>
                <a:gridCol w="4057560"/>
                <a:gridCol w="1584360"/>
                <a:gridCol w="1439640"/>
              </a:tblGrid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466,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494,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955,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941,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8,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8,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511,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511,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 351,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 337,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35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06,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4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95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95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18-03-30T05:40:08Z</dcterms:modified>
  <cp:revision>447</cp:revision>
  <dc:subject/>
  <dc:title>Муниципальное образование Большесолдатский муниципальный район Курской области</dc:title>
</cp:coreProperties>
</file>