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C0B-4A07-4D3B-9F98-8A069665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973-A186-454E-9547-69A4CD68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81B-E6BE-4FC1-AD36-90CF9675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CBD-E9FA-4F76-AF00-34B8B106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521D-496D-433F-ABC3-FA94B0C7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6F80-69AB-4CD5-B580-1ECE58DD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2BF6-DCC0-46C0-B3F6-0C73577F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D564-14A9-43EE-A0F9-F11D18D0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860A-C265-4305-93A5-6CCA94FA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95DD-0AEE-4F70-97E3-889E203C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BC95-C868-462D-927A-5AF6CFE6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3C5-B435-42CF-8B4A-11BCC208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5B23-DF8C-46B3-9874-95FF8357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A242-BADA-45E1-BDDE-62B4A819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73E4-B390-45F0-85C2-3A7384C4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2D1E-6C51-4086-9C06-C4C9F7C4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8D40-8741-49AD-B99E-43AD9DE5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2A3F-6E4C-4A15-BD01-AC80859F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DB94-F104-4D70-AF82-88CE1F21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65703-494F-47AD-966C-60774F42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CCCC-F73E-4DE5-BF66-DB918D24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0188-B4A7-407F-AFE5-EBCAA314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B5B-113F-4CA4-A4E6-883625D5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98A6-29EB-45D3-8BCD-38D94DE4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011E-8E55-46A7-BDF7-FBE3E5BD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70EC9-C028-44D6-AF0C-67218EA6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89B5-3035-4A14-B8F4-3EBC392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A001-79E3-4D72-90E4-26CAC63B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801A4-04A5-4CD0-960A-6ECE40AD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C273-DD56-4CDE-B891-79C72740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C51-FAF5-42FE-AA7F-3DD6FDF1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AF1-5994-45D7-993E-20489B8F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39C-9C2B-43E1-A7B2-A9170E32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88B-7656-4D23-A3EF-61693F9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BCC-114F-4F82-9E20-17EB563A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B9D-A8C0-483E-9F4E-D70892B4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D3CB-1C38-4A44-8A07-9D960E7D21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0DA5-6162-41E0-A652-86F7F82547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BA3C-117C-43E3-8294-220264C54C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1755720" y="225360"/>
            <a:ext cx="6851880" cy="1414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5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cc"/>
                </a:solidFill>
                <a:latin typeface="Times New Roman"/>
              </a:rPr>
              <a:t>ПРОЕКТ БЮДЖЕТ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3333cc"/>
                </a:solidFill>
                <a:latin typeface="Times New Roman"/>
              </a:rPr>
              <a:t>ДЛЯ ГРАЖДАН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Times New Roman"/>
              </a:rPr>
              <a:t>по годовому отчету об исполнении бюджет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Times New Roman"/>
              </a:rPr>
              <a:t>муниципального района  «Большесолдатский район» Курской области за 2017 го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4" descr="302"/>
          <p:cNvPicPr/>
          <p:nvPr/>
        </p:nvPicPr>
        <p:blipFill>
          <a:blip r:embed="rId2"/>
          <a:stretch/>
        </p:blipFill>
        <p:spPr>
          <a:xfrm>
            <a:off x="1042920" y="189000"/>
            <a:ext cx="1495440" cy="1714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4799160" y="1989000"/>
            <a:ext cx="4128840" cy="309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179280" y="1989000"/>
            <a:ext cx="4105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390600" y="506520"/>
            <a:ext cx="8240760" cy="97452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3" descr=""/>
          <p:cNvPicPr/>
          <p:nvPr/>
        </p:nvPicPr>
        <p:blipFill>
          <a:blip r:embed="rId2"/>
          <a:stretch/>
        </p:blipFill>
        <p:spPr>
          <a:xfrm>
            <a:off x="85680" y="1376280"/>
            <a:ext cx="8929800" cy="5033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79280" y="1268280"/>
          <a:ext cx="8785440" cy="5072040"/>
        </p:xfrm>
        <a:graphic>
          <a:graphicData uri="http://schemas.openxmlformats.org/drawingml/2006/table">
            <a:tbl>
              <a:tblPr/>
              <a:tblGrid>
                <a:gridCol w="936720"/>
                <a:gridCol w="4799160"/>
                <a:gridCol w="1525320"/>
                <a:gridCol w="15242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7 год </a:t>
                      </a:r>
                      <a:r>
                        <a:rPr b="1" lang="ru-RU" sz="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7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4 136,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 890,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951,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979,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8248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5,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5,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506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87,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82,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8372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231,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76,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506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50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06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54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,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162,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529,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179280" y="1413000"/>
          <a:ext cx="8713800" cy="5087880"/>
        </p:xfrm>
        <a:graphic>
          <a:graphicData uri="http://schemas.openxmlformats.org/drawingml/2006/table">
            <a:tbl>
              <a:tblPr/>
              <a:tblGrid>
                <a:gridCol w="1078200"/>
                <a:gridCol w="4538520"/>
                <a:gridCol w="1657440"/>
                <a:gridCol w="14396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7 год   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7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781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80748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488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965,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305,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00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748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9852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674,9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349,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4848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2,0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67,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4512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385,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33,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4668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385,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33,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79280" y="1484280"/>
          <a:ext cx="8785440" cy="5052960"/>
        </p:xfrm>
        <a:graphic>
          <a:graphicData uri="http://schemas.openxmlformats.org/drawingml/2006/table">
            <a:tbl>
              <a:tblPr/>
              <a:tblGrid>
                <a:gridCol w="1087560"/>
                <a:gridCol w="4600440"/>
                <a:gridCol w="1584360"/>
                <a:gridCol w="151308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7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7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46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 688,9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 127,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6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81,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052,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6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 423,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 303,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4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116,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005,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332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8,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4,7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999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809,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09,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6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12,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786,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6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137,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12,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75,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74,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54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106189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79280" y="1197000"/>
          <a:ext cx="8713800" cy="4829040"/>
        </p:xfrm>
        <a:graphic>
          <a:graphicData uri="http://schemas.openxmlformats.org/drawingml/2006/table">
            <a:tbl>
              <a:tblPr/>
              <a:tblGrid>
                <a:gridCol w="1078200"/>
                <a:gridCol w="4206600"/>
                <a:gridCol w="1739880"/>
                <a:gridCol w="168912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7 год     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7 год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,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599,8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356,6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772,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629,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531,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51,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76,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76,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20,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20,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506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718,6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718,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506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90,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90,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3748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межбюджетные трансферты обще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27,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27,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250920" y="1387440"/>
          <a:ext cx="8713800" cy="5330880"/>
        </p:xfrm>
        <a:graphic>
          <a:graphicData uri="http://schemas.openxmlformats.org/drawingml/2006/table">
            <a:tbl>
              <a:tblPr/>
              <a:tblGrid>
                <a:gridCol w="3816360"/>
                <a:gridCol w="1468440"/>
                <a:gridCol w="1739880"/>
                <a:gridCol w="168912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раздела по бюдже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ирование  из бюджета муниципального района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у, за счет средст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раздела по бюджетной классифик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3748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3164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3020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8484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3056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00800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14360" y="328680"/>
            <a:ext cx="8242200" cy="9507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0643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униципальной программ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вляется комплекс мероприятий взаимосвязанных по задачам, срокам осуществления и ресурсам в сфере социально-экономического развития Большесолдатского райо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17 году из бюджета муниципального района «Большесолдатский район» Курской области осуществлялось финансирование на реализацию мероприятий по 15 муниципальным программам Большесолдатского района Курской обла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311040" y="109440"/>
            <a:ext cx="844236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907920"/>
          <a:ext cx="8280360" cy="5661000"/>
        </p:xfrm>
        <a:graphic>
          <a:graphicData uri="http://schemas.openxmlformats.org/drawingml/2006/table">
            <a:tbl>
              <a:tblPr/>
              <a:tblGrid>
                <a:gridCol w="6451560"/>
                <a:gridCol w="1828800"/>
              </a:tblGrid>
              <a:tr h="936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 756,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культуры Большесолдатского района Курской области на 2015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232,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184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циальная поддержка граждан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169,7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0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образования Большесолдатского района Курской области на 2015-2017 годы и на плановый период до 2019 год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 438,7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3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Энергосбережение и повышение энергетической эффективности Большесолдатского района Курской области на 2017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храна окружающей среды Большесолдатского района Курской области на 2017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14,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65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беспечение доступным и комфортным жильем и коммунальными услугами граждан Большесолдатского района Курской области на 2017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1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28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работы с молодежью, организация отдыха и оздоровления детей, молодежи, развитие физической культуры и спорта в Большесолдатском  районе  Курской области на 2015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74,9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муниципальной службы  Большесолдатского района Курской области на 2017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569080" cy="5373720"/>
        </p:xfrm>
        <a:graphic>
          <a:graphicData uri="http://schemas.openxmlformats.org/drawingml/2006/table">
            <a:tbl>
              <a:tblPr/>
              <a:tblGrid>
                <a:gridCol w="6653160"/>
                <a:gridCol w="1915920"/>
              </a:tblGrid>
              <a:tr h="446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17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657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хранение и развитие архивного дела Большесолдатского района Курской области на 2015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,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8408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транспортной системы, обеспечение перевозки пассажиров и безопасности дорожного движения Большесолдатского района Курской области на 2017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965,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9220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рофилактика правонарушений в Большесолдатском районе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,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71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 программа «Защита населения и территории от чрезвычайных ситуаций, обеспечение пожарной безопасности и безопасности людей на водных объектах в Большесолдатском районе Курской области на 2016-2020 го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86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управления финансами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24,9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6824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действие занятости населения Большесолдатского района Курской области на 2017 год и на плановый период 2018-2019 годов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6824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Социальное развитие села Большесолдатского района Курской области на 2014-2017 годы и на период до 2020 год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18,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2" name="Прямоугольник 1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Расходы бюджета на реализацию муниципальных программ муниципального района «Большесолдатского район»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184" name="Объект 3" descr=""/>
          <p:cNvPicPr/>
          <p:nvPr/>
        </p:nvPicPr>
        <p:blipFill>
          <a:blip r:embed="rId2"/>
          <a:stretch/>
        </p:blipFill>
        <p:spPr>
          <a:xfrm>
            <a:off x="417600" y="1577880"/>
            <a:ext cx="8229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560" y="2997360"/>
            <a:ext cx="4032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436b"/>
                </a:solidFill>
                <a:latin typeface="Times New Roman"/>
              </a:rPr>
              <a:t>В 2017 году в районе в отрасли образования функционировало 24 учреждения, в отрасли культуры функционировало 3 учреждения, 1 учреждение по обслуживанию органов местного самоуправления,  6 учреждений  органов местного самоуправления, 7 сельских посел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Рисунок 8" descr="map.gif"/>
          <p:cNvPicPr/>
          <p:nvPr/>
        </p:nvPicPr>
        <p:blipFill>
          <a:blip r:embed="rId1"/>
          <a:stretch/>
        </p:blipFill>
        <p:spPr>
          <a:xfrm>
            <a:off x="4896000" y="2835360"/>
            <a:ext cx="3466800" cy="3279600"/>
          </a:xfrm>
          <a:prstGeom prst="rect">
            <a:avLst/>
          </a:prstGeom>
          <a:ln w="0">
            <a:noFill/>
          </a:ln>
        </p:spPr>
      </p:pic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444600" y="146160"/>
            <a:ext cx="8454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353880" y="109440"/>
            <a:ext cx="8429760" cy="21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395280" y="2276640"/>
          <a:ext cx="8424720" cy="4321080"/>
        </p:xfrm>
        <a:graphic>
          <a:graphicData uri="http://schemas.openxmlformats.org/drawingml/2006/table">
            <a:tbl>
              <a:tblPr/>
              <a:tblGrid>
                <a:gridCol w="7216920"/>
                <a:gridCol w="1207800"/>
              </a:tblGrid>
              <a:tr h="261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дорожного фонда по направления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aeff"/>
                        </a:gs>
                        <a:gs pos="100000">
                          <a:srgbClr val="2c51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aeff"/>
                        </a:gs>
                        <a:gs pos="100000">
                          <a:srgbClr val="2c51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безопасности дорожного движения на автомобильных дорогах местного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3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67,4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ьный ремонт, ремонт и содержание автомобильных дорог общего пользования местного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878,6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224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ельство, реконструкцию, капитальный ремонт и ремонт автомобильных дорог общего пользования местного значения с твердым покрытием до сельских населенных пунктов, не имеющих круглогодичной связи с сетью автомобильных дорог общего поль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290,7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ea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349,7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eaeff"/>
                    </a:solidFill>
                  </a:tcPr>
                </a:tc>
              </a:tr>
            </a:tbl>
          </a:graphicData>
        </a:graphic>
      </p:graphicFrame>
      <p:grpSp>
        <p:nvGrpSpPr>
          <p:cNvPr id="187" name="Скругленный прямоугольник 4"/>
          <p:cNvGrpSpPr/>
          <p:nvPr/>
        </p:nvGrpSpPr>
        <p:grpSpPr>
          <a:xfrm>
            <a:off x="115920" y="225360"/>
            <a:ext cx="8832960" cy="768240"/>
            <a:chOff x="115920" y="225360"/>
            <a:chExt cx="8832960" cy="768240"/>
          </a:xfrm>
        </p:grpSpPr>
        <p:pic>
          <p:nvPicPr>
            <p:cNvPr id="188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15920" y="225360"/>
              <a:ext cx="88329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10960" y="291960"/>
              <a:ext cx="865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Times New Roman"/>
                </a:rPr>
                <a:t>Дорожный фонд Большесолдатского района за 2017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5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http://bizmotiv.ru/wp-content/uploads/2015/01/491a1aa1ae0d920e2ef06e7108b67011b5.jpg"/>
          <p:cNvPicPr/>
          <p:nvPr/>
        </p:nvPicPr>
        <p:blipFill>
          <a:blip r:embed="rId1"/>
          <a:stretch/>
        </p:blipFill>
        <p:spPr>
          <a:xfrm>
            <a:off x="4419720" y="115920"/>
            <a:ext cx="4610160" cy="34574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684360" y="260280"/>
            <a:ext cx="806436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од муниципальным долгом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понимается совокуп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долговых обязательств муницип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Муниципальный долг полностью и без условий обеспечивается всем муниципальным имуществом, составляющим муниципальную казну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асходы на обслуживание муниципального дол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за 2017 год составил 0 тыс.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о состоянию на 01.01.201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(как и на 01.01.2017 года) муниципальны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Большесолдатский район»  Курской области задолженности по бюджетным кредитам, предоставленным из областного бюдж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не и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В 2017 году из областного бюджета бюджету муниципального района бюджетные кредиты не выдавались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5767560" y="4121280"/>
            <a:ext cx="3290760" cy="2468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6840" y="2349360"/>
            <a:ext cx="8002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307850, Курская обл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. Большое Солдатско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ул. Кооперативная,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Управление финансов Администрации Большесолдат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факс:(47136) 2-13-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ел.: (47136)  2-14-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-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supr@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рафик работы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 понедельник-пятница с 8-00 до 16-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Суббота, воскресенье - выходные д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Заголовок 3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457200" y="1712880"/>
          <a:ext cx="8229600" cy="430704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1195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да проводятся публичные слуша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 бюджете на очередной финансовый год и на плановый перио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б исполнении бюджета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07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информируются граждане о проведении публичных слуша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вещение о проведении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мещается на официальном сайте Администрации Большесолдатского района Ку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2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ляется итоговый документ публичных слушаний с учетом высказанных экспертами рекомендаций и предложений. Итоговый документ размещается на официальном сайте Администрации Большесолдатского района Курской об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83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можно получить дополнительную информацию о публичных слушания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ительное Собрание Большесолдатского района Курской области по адресу: 307850,  Большесолдатский район, с. Большое Солдатское, ул. Мира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4360" y="2707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БЮДЖЕТ ДЛЯ ГРАЖДАН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500040" y="609480"/>
            <a:ext cx="4986360" cy="1163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go3.imgsmail.ru/imgpreview?key=76015b94b039ae6d&amp;mb=imgdb_preview_291"/>
          <p:cNvPicPr/>
          <p:nvPr/>
        </p:nvPicPr>
        <p:blipFill>
          <a:blip r:embed="rId2"/>
          <a:stretch/>
        </p:blipFill>
        <p:spPr>
          <a:xfrm>
            <a:off x="5286240" y="227160"/>
            <a:ext cx="369252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63680" y="152280"/>
            <a:ext cx="8242200" cy="1122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юджет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доходов и расходов для  обеспечения задач и   функций государ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«Программный бюджет»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, сформированный в соответствии с утвержденными муниципальными программ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ефицит бюджета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ная часть бюджета превышает доходну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официт бюджета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ый остаток бюдж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ходная часть бюджета превышает расходную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оект бюджета об исполнении составляется на один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38120" y="79200"/>
            <a:ext cx="8388360" cy="1463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87280" y="1773360"/>
          <a:ext cx="6985080" cy="444024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97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21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9 266,8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3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8 890,6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87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 623, 7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Скругленный прямоугольник 3"/>
          <p:cNvGrpSpPr/>
          <p:nvPr/>
        </p:nvGrpSpPr>
        <p:grpSpPr>
          <a:xfrm>
            <a:off x="115920" y="66600"/>
            <a:ext cx="8832960" cy="854280"/>
            <a:chOff x="115920" y="66600"/>
            <a:chExt cx="8832960" cy="854280"/>
          </a:xfrm>
        </p:grpSpPr>
        <p:pic>
          <p:nvPicPr>
            <p:cNvPr id="14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15920" y="66600"/>
              <a:ext cx="8832960" cy="85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Text Box 2"/>
            <p:cNvGrpSpPr/>
            <p:nvPr/>
          </p:nvGrpSpPr>
          <p:grpSpPr>
            <a:xfrm>
              <a:off x="209880" y="171360"/>
              <a:ext cx="8658000" cy="669240"/>
              <a:chOff x="209880" y="171360"/>
              <a:chExt cx="8658000" cy="669240"/>
            </a:xfrm>
          </p:grpSpPr>
          <p:pic>
            <p:nvPicPr>
              <p:cNvPr id="142" name="Text Box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09880" y="171360"/>
                <a:ext cx="8658000" cy="66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254160" y="184680"/>
                <a:ext cx="8262360" cy="4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nstantia"/>
                  </a:rPr>
                  <a:t>Доходы бюджет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TextBox 12"/>
          <p:cNvSpPr/>
          <p:nvPr/>
        </p:nvSpPr>
        <p:spPr>
          <a:xfrm>
            <a:off x="2627280" y="981000"/>
            <a:ext cx="53992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Constantia"/>
              </a:rPr>
              <a:t>Поступающие в бюджет денежные средства явля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onstantia"/>
              </a:rPr>
              <a:t>ДОХОДАМИ 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низ 13"/>
          <p:cNvSpPr/>
          <p:nvPr/>
        </p:nvSpPr>
        <p:spPr>
          <a:xfrm rot="2358000">
            <a:off x="3131640" y="1773000"/>
            <a:ext cx="223920" cy="1025280"/>
          </a:xfrm>
          <a:prstGeom prst="downArrow">
            <a:avLst>
              <a:gd name="adj1" fmla="val 50000"/>
              <a:gd name="adj2" fmla="val 63340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низ 14"/>
          <p:cNvSpPr/>
          <p:nvPr/>
        </p:nvSpPr>
        <p:spPr>
          <a:xfrm rot="19246800">
            <a:off x="7235640" y="1773000"/>
            <a:ext cx="223560" cy="1006200"/>
          </a:xfrm>
          <a:prstGeom prst="downArrow">
            <a:avLst>
              <a:gd name="adj1" fmla="val 50000"/>
              <a:gd name="adj2" fmla="val 50155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15"/>
          <p:cNvSpPr/>
          <p:nvPr/>
        </p:nvSpPr>
        <p:spPr>
          <a:xfrm>
            <a:off x="5003640" y="1844640"/>
            <a:ext cx="223920" cy="936720"/>
          </a:xfrm>
          <a:prstGeom prst="downArrow">
            <a:avLst>
              <a:gd name="adj1" fmla="val 50000"/>
              <a:gd name="adj2" fmla="val 72065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Скругленный прямоугольник 16"/>
          <p:cNvGrpSpPr/>
          <p:nvPr/>
        </p:nvGrpSpPr>
        <p:grpSpPr>
          <a:xfrm>
            <a:off x="1139760" y="2981160"/>
            <a:ext cx="2646360" cy="3767400"/>
            <a:chOff x="1139760" y="2981160"/>
            <a:chExt cx="2646360" cy="3767400"/>
          </a:xfrm>
        </p:grpSpPr>
        <p:pic>
          <p:nvPicPr>
            <p:cNvPr id="149" name="Скругленный прямоугольник 16" descr=""/>
            <p:cNvPicPr/>
            <p:nvPr/>
          </p:nvPicPr>
          <p:blipFill>
            <a:blip r:embed="rId3"/>
            <a:stretch/>
          </p:blipFill>
          <p:spPr>
            <a:xfrm>
              <a:off x="1139760" y="2981160"/>
              <a:ext cx="264636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297080" y="3106800"/>
              <a:ext cx="201276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</a:rPr>
                <a:t>НАЛОГИ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400" spc="-1" strike="noStrike">
                  <a:solidFill>
                    <a:srgbClr val="ddf1fd"/>
                  </a:solidFill>
                  <a:latin typeface="Constantia"/>
                </a:rPr>
                <a:t>– часть доходов граждан и организаций, которые они обязаны заплатить государству (например, налог на доходы физических лиц, налог на прибыль, налог на имущество физических лиц, земельный налог, транспортный налог и др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Скругленный прямоугольник 17"/>
          <p:cNvGrpSpPr/>
          <p:nvPr/>
        </p:nvGrpSpPr>
        <p:grpSpPr>
          <a:xfrm>
            <a:off x="3876840" y="2981160"/>
            <a:ext cx="2719080" cy="3767400"/>
            <a:chOff x="3876840" y="2981160"/>
            <a:chExt cx="2719080" cy="3767400"/>
          </a:xfrm>
        </p:grpSpPr>
        <p:pic>
          <p:nvPicPr>
            <p:cNvPr id="152" name="Скругленный прямоугольник 17" descr=""/>
            <p:cNvPicPr/>
            <p:nvPr/>
          </p:nvPicPr>
          <p:blipFill>
            <a:blip r:embed="rId4"/>
            <a:stretch/>
          </p:blipFill>
          <p:spPr>
            <a:xfrm>
              <a:off x="3876840" y="2981160"/>
              <a:ext cx="271908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37040" y="3110040"/>
              <a:ext cx="2077920" cy="31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</a:rPr>
                <a:t>НЕНАЛОГОВЫЕ ДОХОДЫ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400" spc="-1" strike="noStrike">
                  <a:solidFill>
                    <a:srgbClr val="ddf1fd"/>
                  </a:solidFill>
                  <a:latin typeface="Constantia"/>
                </a:rPr>
                <a:t>– платежи в виде штрафов, санкций за нарушение законодательства, платежи за пользование имуществом государства, средства самообложения гражд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Скругленный прямоугольник 18"/>
          <p:cNvGrpSpPr/>
          <p:nvPr/>
        </p:nvGrpSpPr>
        <p:grpSpPr>
          <a:xfrm>
            <a:off x="6540480" y="3048120"/>
            <a:ext cx="2719440" cy="3700440"/>
            <a:chOff x="6540480" y="3048120"/>
            <a:chExt cx="2719440" cy="3700440"/>
          </a:xfrm>
        </p:grpSpPr>
        <p:pic>
          <p:nvPicPr>
            <p:cNvPr id="155" name="Скругленный прямоугольник 18" descr=""/>
            <p:cNvPicPr/>
            <p:nvPr/>
          </p:nvPicPr>
          <p:blipFill>
            <a:blip r:embed="rId5"/>
            <a:stretch/>
          </p:blipFill>
          <p:spPr>
            <a:xfrm>
              <a:off x="6540480" y="3048120"/>
              <a:ext cx="27194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700680" y="3181320"/>
              <a:ext cx="207828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</a:rPr>
                <a:t>БЕЗВОЗМЕЗДНЫЕ ПОСТУПЛЕНИЯ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</a:rPr>
                <a:t>– </a:t>
              </a:r>
              <a:r>
                <a:rPr b="0" lang="ru-RU" sz="1400" spc="-1" strike="noStrike">
                  <a:solidFill>
                    <a:srgbClr val="ddf1fd"/>
                  </a:solidFill>
                  <a:latin typeface="Constantia"/>
                </a:rPr>
                <a:t>средства, которые поступают в бюджет безвозмездно (денежные средства, поступающие из вышестоящего бюджета (например, дотация из областного бюджета), а также безвозмездные перечисления от физических и юридических лиц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34" descr="imagesCAXB4YMV"/>
          <p:cNvPicPr/>
          <p:nvPr/>
        </p:nvPicPr>
        <p:blipFill>
          <a:blip r:embed="rId6"/>
          <a:stretch/>
        </p:blipFill>
        <p:spPr>
          <a:xfrm>
            <a:off x="179280" y="981000"/>
            <a:ext cx="2592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14200" y="1071720"/>
          <a:ext cx="8750520" cy="5641920"/>
        </p:xfrm>
        <a:graphic>
          <a:graphicData uri="http://schemas.openxmlformats.org/drawingml/2006/table">
            <a:tbl>
              <a:tblPr/>
              <a:tblGrid>
                <a:gridCol w="2963880"/>
                <a:gridCol w="2422800"/>
                <a:gridCol w="3363840"/>
              </a:tblGrid>
              <a:tr h="78264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я в семейном бюдж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33164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ati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без определения конкр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«карманные деньг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</a:tr>
              <a:tr h="188460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venir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еданных» друг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-правов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ям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деньги и посылаете его в магазин купить продукты (по списк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</a:tr>
              <a:tr h="164304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idium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оддерж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marL="152280">
                        <a:lnSpc>
                          <a:spcPts val="19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«добавляете» денег для того, чт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ебенок купил себе новый 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остальные он накопил с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571760" y="3240"/>
            <a:ext cx="56689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жбюджетные трансферты - основной в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езвозмездных перечис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38224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142920" y="714240"/>
          <a:ext cx="8858160" cy="6132600"/>
        </p:xfrm>
        <a:graphic>
          <a:graphicData uri="http://schemas.openxmlformats.org/drawingml/2006/table">
            <a:tbl>
              <a:tblPr/>
              <a:tblGrid>
                <a:gridCol w="1523880"/>
                <a:gridCol w="3703680"/>
                <a:gridCol w="1816200"/>
                <a:gridCol w="1814400"/>
              </a:tblGrid>
              <a:tr h="72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17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7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 896,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 772,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393,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 685,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, реализуемые на территории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113,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66,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06,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50,6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8,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4,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96,9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24,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,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,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91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04,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91,7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5,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5,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,8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6,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50920" y="1268280"/>
          <a:ext cx="8569080" cy="5472360"/>
        </p:xfrm>
        <a:graphic>
          <a:graphicData uri="http://schemas.openxmlformats.org/drawingml/2006/table">
            <a:tbl>
              <a:tblPr/>
              <a:tblGrid>
                <a:gridCol w="1487520"/>
                <a:gridCol w="4057560"/>
                <a:gridCol w="1584360"/>
                <a:gridCol w="1439640"/>
              </a:tblGrid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1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466,7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494,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35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 955,3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 941,7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38,7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38,7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511,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511,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 бюджетной системы 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 351,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 337,8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35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,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,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 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06,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47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95,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95,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3822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1:14:49Z</dcterms:created>
  <dc:creator>Людмила Михайловна</dc:creator>
  <dc:description/>
  <dc:language>en-US</dc:language>
  <cp:lastModifiedBy>User</cp:lastModifiedBy>
  <cp:lastPrinted>2017-05-22T12:51:03Z</cp:lastPrinted>
  <dcterms:modified xsi:type="dcterms:W3CDTF">2018-03-23T06:59:01Z</dcterms:modified>
  <cp:revision>445</cp:revision>
  <dc:subject/>
  <dc:title>Муниципальное образование Большесолдатский муниципальный район Курской области</dc:title>
</cp:coreProperties>
</file>